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4B2-C124-43A1-86E9-B4520DD2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0F3-E417-4081-AC5D-A7B7646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18F-EB3C-4800-9262-39D2D42C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FD8-EA42-4375-866A-DD102130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48F7-A778-4AE5-A65A-4D9E169E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1B4-8CAD-4839-B414-7B3D7C59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13DA-9998-4A87-9A84-8FD27AAD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9527-9591-4691-9D17-5F73B756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EE04-651A-493B-A323-DC1025B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9A2-6F13-451D-B8B6-F8AE54E6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1858-28C9-4EBF-8B2E-E09B3C79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236-24DC-482F-8C94-114F54B3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9428-BB9F-4860-96DB-64DF472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BA9C-B7C2-4FE2-9579-B7D1095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D49F-7152-47DB-BFA3-8A695BE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311-4D51-4E63-91EF-43F9FADA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4687-4C8E-4FB9-A462-90552209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5B7-6F14-4417-BE06-67D2666B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5B6-7E3D-4B84-8236-0FFCDF1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79D-EDB9-4A2E-99A8-C74E98C6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8D3-4060-4DF4-9BC5-73F46FDE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C17-CE42-4907-98DD-E4EC09D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827-5FCD-4719-88B3-65E5309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05D-B36E-4AA7-9AD6-5C66AA3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1C1-5340-47ED-BB99-69CF2C989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1D5E-C4E1-4BCE-96DB-59F54967D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 Day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k drawer contains 6 black pens, 5 blue pens, 4 red pens, and 5 green p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picks one pen from the drawer without look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Alex picks a blue p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press as a decim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81160" y="4071960"/>
            <a:ext cx="1830600" cy="393840"/>
          </a:xfrm>
          <a:custGeom>
            <a:avLst/>
            <a:gdLst/>
            <a:ahLst/>
            <a:rect l="l" t="t" r="r" b="b"/>
            <a:pathLst>
              <a:path w="5086" h="1092">
                <a:moveTo>
                  <a:pt x="6028" y="12030"/>
                </a:moveTo>
                <a:cubicBezTo>
                  <a:pt x="5953" y="12128"/>
                  <a:pt x="5777" y="12349"/>
                  <a:pt x="5804" y="12378"/>
                </a:cubicBezTo>
              </a:path>
              <a:path w="5086" h="1092">
                <a:moveTo>
                  <a:pt x="6350" y="11460"/>
                </a:moveTo>
                <a:cubicBezTo>
                  <a:pt x="6507" y="11400"/>
                  <a:pt x="6658" y="11355"/>
                  <a:pt x="6821" y="11311"/>
                </a:cubicBezTo>
              </a:path>
              <a:path w="5086" h="1092">
                <a:moveTo>
                  <a:pt x="10790" y="11857"/>
                </a:moveTo>
                <a:cubicBezTo>
                  <a:pt x="10815" y="11849"/>
                  <a:pt x="10839" y="11840"/>
                  <a:pt x="10864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81120" y="3929040"/>
            <a:ext cx="3125880" cy="785880"/>
          </a:xfrm>
          <a:custGeom>
            <a:avLst/>
            <a:gdLst/>
            <a:ahLst/>
            <a:rect l="l" t="t" r="r" b="b"/>
            <a:pathLst>
              <a:path w="8683" h="2184">
                <a:moveTo>
                  <a:pt x="4415" y="12402"/>
                </a:moveTo>
                <a:cubicBezTo>
                  <a:pt x="4406" y="12402"/>
                  <a:pt x="5032" y="12270"/>
                  <a:pt x="5110" y="12254"/>
                </a:cubicBezTo>
                <a:cubicBezTo>
                  <a:pt x="5271" y="12220"/>
                  <a:pt x="5323" y="12204"/>
                  <a:pt x="5457" y="12204"/>
                </a:cubicBezTo>
              </a:path>
              <a:path w="8683" h="2184">
                <a:moveTo>
                  <a:pt x="4787" y="12576"/>
                </a:moveTo>
                <a:cubicBezTo>
                  <a:pt x="4870" y="12588"/>
                  <a:pt x="4859" y="12607"/>
                  <a:pt x="4936" y="12601"/>
                </a:cubicBezTo>
                <a:cubicBezTo>
                  <a:pt x="5173" y="12583"/>
                  <a:pt x="5209" y="12792"/>
                  <a:pt x="5060" y="12948"/>
                </a:cubicBezTo>
                <a:cubicBezTo>
                  <a:pt x="4918" y="13096"/>
                  <a:pt x="4818" y="13107"/>
                  <a:pt x="4663" y="13047"/>
                </a:cubicBezTo>
                <a:cubicBezTo>
                  <a:pt x="4733" y="12855"/>
                  <a:pt x="4841" y="12959"/>
                  <a:pt x="5011" y="13022"/>
                </a:cubicBezTo>
                <a:cubicBezTo>
                  <a:pt x="5036" y="13030"/>
                  <a:pt x="5060" y="13039"/>
                  <a:pt x="5085" y="13047"/>
                </a:cubicBezTo>
              </a:path>
              <a:path w="8683" h="2184">
                <a:moveTo>
                  <a:pt x="5259" y="12774"/>
                </a:moveTo>
                <a:cubicBezTo>
                  <a:pt x="5259" y="12918"/>
                  <a:pt x="5257" y="12963"/>
                  <a:pt x="5308" y="13047"/>
                </a:cubicBezTo>
                <a:cubicBezTo>
                  <a:pt x="5441" y="13025"/>
                  <a:pt x="5780" y="12891"/>
                  <a:pt x="5556" y="12700"/>
                </a:cubicBezTo>
                <a:cubicBezTo>
                  <a:pt x="5409" y="12651"/>
                  <a:pt x="5362" y="12634"/>
                  <a:pt x="5259" y="12675"/>
                </a:cubicBezTo>
              </a:path>
              <a:path w="8683" h="2184">
                <a:moveTo>
                  <a:pt x="5060" y="11460"/>
                </a:moveTo>
                <a:cubicBezTo>
                  <a:pt x="5002" y="11512"/>
                  <a:pt x="4944" y="11548"/>
                  <a:pt x="4911" y="11609"/>
                </a:cubicBezTo>
                <a:cubicBezTo>
                  <a:pt x="4874" y="11678"/>
                  <a:pt x="4850" y="11732"/>
                  <a:pt x="4837" y="11807"/>
                </a:cubicBezTo>
                <a:cubicBezTo>
                  <a:pt x="4945" y="11776"/>
                  <a:pt x="5169" y="11564"/>
                  <a:pt x="5283" y="11708"/>
                </a:cubicBezTo>
                <a:cubicBezTo>
                  <a:pt x="5458" y="11928"/>
                  <a:pt x="5068" y="12036"/>
                  <a:pt x="4936" y="12030"/>
                </a:cubicBezTo>
                <a:cubicBezTo>
                  <a:pt x="4845" y="12012"/>
                  <a:pt x="4804" y="12038"/>
                  <a:pt x="4812" y="11981"/>
                </a:cubicBezTo>
              </a:path>
              <a:path w="8683" h="2184">
                <a:moveTo>
                  <a:pt x="5035" y="11534"/>
                </a:moveTo>
                <a:cubicBezTo>
                  <a:pt x="5143" y="11492"/>
                  <a:pt x="5271" y="11393"/>
                  <a:pt x="5383" y="11336"/>
                </a:cubicBezTo>
                <a:cubicBezTo>
                  <a:pt x="5456" y="11299"/>
                  <a:pt x="5461" y="11282"/>
                  <a:pt x="5507" y="11286"/>
                </a:cubicBezTo>
              </a:path>
              <a:path w="8683" h="2184">
                <a:moveTo>
                  <a:pt x="5804" y="12055"/>
                </a:moveTo>
                <a:cubicBezTo>
                  <a:pt x="5823" y="12150"/>
                  <a:pt x="5894" y="12274"/>
                  <a:pt x="5953" y="12353"/>
                </a:cubicBezTo>
                <a:cubicBezTo>
                  <a:pt x="5953" y="12345"/>
                  <a:pt x="5953" y="12336"/>
                  <a:pt x="5953" y="12328"/>
                </a:cubicBezTo>
              </a:path>
              <a:path w="8683" h="2184">
                <a:moveTo>
                  <a:pt x="7293" y="12129"/>
                </a:moveTo>
                <a:cubicBezTo>
                  <a:pt x="7568" y="12049"/>
                  <a:pt x="7827" y="11990"/>
                  <a:pt x="8111" y="11956"/>
                </a:cubicBezTo>
                <a:cubicBezTo>
                  <a:pt x="8119" y="11956"/>
                  <a:pt x="8128" y="11956"/>
                  <a:pt x="8136" y="11956"/>
                </a:cubicBezTo>
              </a:path>
              <a:path w="8683" h="2184">
                <a:moveTo>
                  <a:pt x="7541" y="12278"/>
                </a:moveTo>
                <a:cubicBezTo>
                  <a:pt x="7500" y="12391"/>
                  <a:pt x="7377" y="12656"/>
                  <a:pt x="7417" y="12675"/>
                </a:cubicBezTo>
              </a:path>
              <a:path w="8683" h="2184">
                <a:moveTo>
                  <a:pt x="7789" y="12328"/>
                </a:moveTo>
                <a:cubicBezTo>
                  <a:pt x="7743" y="12467"/>
                  <a:pt x="7726" y="12505"/>
                  <a:pt x="7739" y="12601"/>
                </a:cubicBezTo>
                <a:cubicBezTo>
                  <a:pt x="7883" y="12612"/>
                  <a:pt x="8085" y="12493"/>
                  <a:pt x="7962" y="12303"/>
                </a:cubicBezTo>
                <a:cubicBezTo>
                  <a:pt x="7928" y="12250"/>
                  <a:pt x="7773" y="12254"/>
                  <a:pt x="7888" y="12254"/>
                </a:cubicBezTo>
              </a:path>
              <a:path w="8683" h="2184">
                <a:moveTo>
                  <a:pt x="8285" y="12179"/>
                </a:moveTo>
                <a:cubicBezTo>
                  <a:pt x="8192" y="12339"/>
                  <a:pt x="8174" y="12377"/>
                  <a:pt x="8210" y="12551"/>
                </a:cubicBezTo>
                <a:cubicBezTo>
                  <a:pt x="8335" y="12551"/>
                  <a:pt x="8677" y="12375"/>
                  <a:pt x="8409" y="12229"/>
                </a:cubicBezTo>
                <a:cubicBezTo>
                  <a:pt x="8326" y="12212"/>
                  <a:pt x="8244" y="12196"/>
                  <a:pt x="8161" y="12179"/>
                </a:cubicBezTo>
              </a:path>
              <a:path w="8683" h="2184">
                <a:moveTo>
                  <a:pt x="6424" y="12303"/>
                </a:moveTo>
                <a:cubicBezTo>
                  <a:pt x="6401" y="12375"/>
                  <a:pt x="6395" y="12398"/>
                  <a:pt x="6350" y="12427"/>
                </a:cubicBezTo>
                <a:cubicBezTo>
                  <a:pt x="6423" y="12452"/>
                  <a:pt x="6529" y="12426"/>
                  <a:pt x="6623" y="12452"/>
                </a:cubicBezTo>
                <a:cubicBezTo>
                  <a:pt x="6555" y="12621"/>
                  <a:pt x="6499" y="12699"/>
                  <a:pt x="6400" y="12526"/>
                </a:cubicBezTo>
              </a:path>
              <a:path w="8683" h="2184">
                <a:moveTo>
                  <a:pt x="6424" y="12278"/>
                </a:moveTo>
                <a:cubicBezTo>
                  <a:pt x="6500" y="12218"/>
                  <a:pt x="6620" y="12169"/>
                  <a:pt x="6672" y="12105"/>
                </a:cubicBezTo>
              </a:path>
              <a:path w="8683" h="2184">
                <a:moveTo>
                  <a:pt x="6226" y="11981"/>
                </a:moveTo>
                <a:cubicBezTo>
                  <a:pt x="6314" y="11943"/>
                  <a:pt x="6462" y="11882"/>
                  <a:pt x="6548" y="11832"/>
                </a:cubicBezTo>
                <a:cubicBezTo>
                  <a:pt x="6565" y="11815"/>
                  <a:pt x="6581" y="11799"/>
                  <a:pt x="6598" y="11782"/>
                </a:cubicBezTo>
              </a:path>
              <a:path w="8683" h="2184">
                <a:moveTo>
                  <a:pt x="6350" y="11509"/>
                </a:moveTo>
                <a:cubicBezTo>
                  <a:pt x="6320" y="11569"/>
                  <a:pt x="6306" y="11595"/>
                  <a:pt x="6276" y="11633"/>
                </a:cubicBezTo>
                <a:cubicBezTo>
                  <a:pt x="6409" y="11643"/>
                  <a:pt x="6456" y="11642"/>
                  <a:pt x="6424" y="11782"/>
                </a:cubicBezTo>
                <a:cubicBezTo>
                  <a:pt x="6311" y="11782"/>
                  <a:pt x="6269" y="11772"/>
                  <a:pt x="6226" y="11683"/>
                </a:cubicBezTo>
              </a:path>
              <a:path w="8683" h="2184">
                <a:moveTo>
                  <a:pt x="10319" y="11435"/>
                </a:moveTo>
                <a:cubicBezTo>
                  <a:pt x="10155" y="11673"/>
                  <a:pt x="10092" y="11786"/>
                  <a:pt x="10170" y="12055"/>
                </a:cubicBezTo>
                <a:cubicBezTo>
                  <a:pt x="10385" y="12028"/>
                  <a:pt x="10704" y="11920"/>
                  <a:pt x="10542" y="11609"/>
                </a:cubicBezTo>
                <a:cubicBezTo>
                  <a:pt x="10424" y="11538"/>
                  <a:pt x="10390" y="11513"/>
                  <a:pt x="10294" y="11534"/>
                </a:cubicBezTo>
              </a:path>
              <a:path w="8683" h="2184">
                <a:moveTo>
                  <a:pt x="11088" y="11237"/>
                </a:moveTo>
                <a:cubicBezTo>
                  <a:pt x="11257" y="11367"/>
                  <a:pt x="11520" y="11622"/>
                  <a:pt x="11212" y="11807"/>
                </a:cubicBezTo>
                <a:cubicBezTo>
                  <a:pt x="11083" y="11829"/>
                  <a:pt x="11050" y="11848"/>
                  <a:pt x="10988" y="11782"/>
                </a:cubicBezTo>
                <a:cubicBezTo>
                  <a:pt x="11129" y="11618"/>
                  <a:pt x="11212" y="11605"/>
                  <a:pt x="11410" y="11733"/>
                </a:cubicBezTo>
                <a:cubicBezTo>
                  <a:pt x="11418" y="11741"/>
                  <a:pt x="11427" y="11749"/>
                  <a:pt x="11435" y="11757"/>
                </a:cubicBezTo>
              </a:path>
              <a:path w="8683" h="2184">
                <a:moveTo>
                  <a:pt x="11708" y="11112"/>
                </a:moveTo>
                <a:cubicBezTo>
                  <a:pt x="11606" y="11157"/>
                  <a:pt x="11632" y="11138"/>
                  <a:pt x="11584" y="11237"/>
                </a:cubicBezTo>
                <a:cubicBezTo>
                  <a:pt x="11543" y="11318"/>
                  <a:pt x="11527" y="11330"/>
                  <a:pt x="11534" y="11385"/>
                </a:cubicBezTo>
                <a:cubicBezTo>
                  <a:pt x="11734" y="11361"/>
                  <a:pt x="11960" y="11300"/>
                  <a:pt x="12055" y="11534"/>
                </a:cubicBezTo>
                <a:cubicBezTo>
                  <a:pt x="12155" y="11780"/>
                  <a:pt x="11724" y="11704"/>
                  <a:pt x="11633" y="11683"/>
                </a:cubicBezTo>
              </a:path>
              <a:path w="8683" h="2184">
                <a:moveTo>
                  <a:pt x="9699" y="12650"/>
                </a:moveTo>
                <a:cubicBezTo>
                  <a:pt x="10472" y="12509"/>
                  <a:pt x="11207" y="12370"/>
                  <a:pt x="11956" y="12129"/>
                </a:cubicBezTo>
                <a:cubicBezTo>
                  <a:pt x="12463" y="11966"/>
                  <a:pt x="12714" y="11881"/>
                  <a:pt x="13072" y="11534"/>
                </a:cubicBezTo>
                <a:cubicBezTo>
                  <a:pt x="12722" y="10987"/>
                  <a:pt x="12043" y="10903"/>
                  <a:pt x="11361" y="10914"/>
                </a:cubicBezTo>
                <a:cubicBezTo>
                  <a:pt x="10548" y="10927"/>
                  <a:pt x="9482" y="11218"/>
                  <a:pt x="9351" y="12179"/>
                </a:cubicBezTo>
                <a:cubicBezTo>
                  <a:pt x="9223" y="13118"/>
                  <a:pt x="10560" y="12434"/>
                  <a:pt x="10840" y="12303"/>
                </a:cubicBezTo>
              </a:path>
              <a:path w="8683" h="2184">
                <a:moveTo>
                  <a:pt x="11658" y="11212"/>
                </a:moveTo>
                <a:cubicBezTo>
                  <a:pt x="11770" y="11202"/>
                  <a:pt x="11884" y="11186"/>
                  <a:pt x="11981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51120" y="3990960"/>
            <a:ext cx="677880" cy="287280"/>
          </a:xfrm>
          <a:custGeom>
            <a:avLst/>
            <a:gdLst/>
            <a:ahLst/>
            <a:rect l="l" t="t" r="r" b="b"/>
            <a:pathLst>
              <a:path w="1886" h="794">
                <a:moveTo>
                  <a:pt x="7640" y="11261"/>
                </a:moveTo>
                <a:cubicBezTo>
                  <a:pt x="7816" y="11182"/>
                  <a:pt x="7974" y="11136"/>
                  <a:pt x="8161" y="11088"/>
                </a:cubicBezTo>
              </a:path>
              <a:path w="1886" h="794">
                <a:moveTo>
                  <a:pt x="8161" y="11088"/>
                </a:moveTo>
                <a:lnTo>
                  <a:pt x="8161" y="11088"/>
                </a:lnTo>
              </a:path>
              <a:path w="1886" h="794">
                <a:moveTo>
                  <a:pt x="8806" y="11807"/>
                </a:moveTo>
                <a:cubicBezTo>
                  <a:pt x="8964" y="11743"/>
                  <a:pt x="9108" y="11712"/>
                  <a:pt x="9277" y="11683"/>
                </a:cubicBezTo>
              </a:path>
              <a:path w="1886" h="794">
                <a:moveTo>
                  <a:pt x="9103" y="11881"/>
                </a:moveTo>
                <a:cubicBezTo>
                  <a:pt x="9312" y="11830"/>
                  <a:pt x="9388" y="11810"/>
                  <a:pt x="9525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89120" y="4071960"/>
            <a:ext cx="268560" cy="196920"/>
          </a:xfrm>
          <a:custGeom>
            <a:avLst/>
            <a:gdLst/>
            <a:ahLst/>
            <a:rect l="l" t="t" r="r" b="b"/>
            <a:pathLst>
              <a:path w="746" h="547">
                <a:moveTo>
                  <a:pt x="7193" y="11435"/>
                </a:moveTo>
                <a:cubicBezTo>
                  <a:pt x="7366" y="11465"/>
                  <a:pt x="7635" y="11565"/>
                  <a:pt x="7441" y="11807"/>
                </a:cubicBezTo>
                <a:cubicBezTo>
                  <a:pt x="7327" y="11948"/>
                  <a:pt x="7248" y="11805"/>
                  <a:pt x="7193" y="11733"/>
                </a:cubicBezTo>
                <a:cubicBezTo>
                  <a:pt x="7384" y="11628"/>
                  <a:pt x="7380" y="11786"/>
                  <a:pt x="7541" y="11807"/>
                </a:cubicBezTo>
                <a:cubicBezTo>
                  <a:pt x="7574" y="11799"/>
                  <a:pt x="7607" y="11790"/>
                  <a:pt x="7640" y="11782"/>
                </a:cubicBezTo>
              </a:path>
              <a:path w="746" h="547">
                <a:moveTo>
                  <a:pt x="7615" y="11311"/>
                </a:moveTo>
                <a:cubicBezTo>
                  <a:pt x="7592" y="11448"/>
                  <a:pt x="7795" y="11461"/>
                  <a:pt x="7888" y="11559"/>
                </a:cubicBezTo>
                <a:cubicBezTo>
                  <a:pt x="8114" y="11798"/>
                  <a:pt x="7702" y="11689"/>
                  <a:pt x="7640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cff"/>
                </a:solidFill>
                <a:latin typeface="Times New Roman"/>
              </a:rPr>
              <a:t>Homework Practice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 B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cff"/>
                </a:solidFill>
                <a:latin typeface="Times New Roman"/>
              </a:rPr>
              <a:t>Unit 8: Statistics and Probabil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63800" y="588960"/>
            <a:ext cx="1152360" cy="831960"/>
          </a:xfrm>
          <a:custGeom>
            <a:avLst/>
            <a:gdLst/>
            <a:ahLst/>
            <a:rect l="l" t="t" r="r" b="b"/>
            <a:pathLst>
              <a:path w="3201" h="2308">
                <a:moveTo>
                  <a:pt x="5755" y="1637"/>
                </a:moveTo>
                <a:cubicBezTo>
                  <a:pt x="5746" y="1972"/>
                  <a:pt x="5682" y="2234"/>
                  <a:pt x="5606" y="2555"/>
                </a:cubicBezTo>
                <a:cubicBezTo>
                  <a:pt x="5606" y="2571"/>
                  <a:pt x="5606" y="2588"/>
                  <a:pt x="5606" y="2604"/>
                </a:cubicBezTo>
                <a:cubicBezTo>
                  <a:pt x="5737" y="2508"/>
                  <a:pt x="5808" y="2464"/>
                  <a:pt x="6003" y="2505"/>
                </a:cubicBezTo>
                <a:cubicBezTo>
                  <a:pt x="6093" y="2524"/>
                  <a:pt x="6238" y="2674"/>
                  <a:pt x="6325" y="2555"/>
                </a:cubicBezTo>
                <a:cubicBezTo>
                  <a:pt x="6333" y="2530"/>
                  <a:pt x="6342" y="2505"/>
                  <a:pt x="6350" y="2480"/>
                </a:cubicBezTo>
              </a:path>
              <a:path w="3201" h="2308">
                <a:moveTo>
                  <a:pt x="6424" y="2332"/>
                </a:moveTo>
                <a:cubicBezTo>
                  <a:pt x="6422" y="2358"/>
                  <a:pt x="6400" y="2585"/>
                  <a:pt x="6400" y="2530"/>
                </a:cubicBezTo>
              </a:path>
              <a:path w="3201" h="2308">
                <a:moveTo>
                  <a:pt x="6573" y="2034"/>
                </a:moveTo>
                <a:cubicBezTo>
                  <a:pt x="6615" y="2255"/>
                  <a:pt x="6648" y="2409"/>
                  <a:pt x="6623" y="2629"/>
                </a:cubicBezTo>
              </a:path>
              <a:path w="3201" h="2308">
                <a:moveTo>
                  <a:pt x="6945" y="2009"/>
                </a:moveTo>
                <a:cubicBezTo>
                  <a:pt x="6937" y="2029"/>
                  <a:pt x="6789" y="2495"/>
                  <a:pt x="6697" y="2381"/>
                </a:cubicBezTo>
                <a:cubicBezTo>
                  <a:pt x="6697" y="2365"/>
                  <a:pt x="6697" y="2348"/>
                  <a:pt x="6697" y="2332"/>
                </a:cubicBezTo>
                <a:cubicBezTo>
                  <a:pt x="6758" y="2301"/>
                  <a:pt x="6943" y="2387"/>
                  <a:pt x="7020" y="2456"/>
                </a:cubicBezTo>
                <a:cubicBezTo>
                  <a:pt x="7085" y="2514"/>
                  <a:pt x="7050" y="2551"/>
                  <a:pt x="7094" y="2580"/>
                </a:cubicBezTo>
              </a:path>
              <a:path w="3201" h="2308">
                <a:moveTo>
                  <a:pt x="7268" y="2307"/>
                </a:moveTo>
                <a:cubicBezTo>
                  <a:pt x="7337" y="2279"/>
                  <a:pt x="7455" y="2289"/>
                  <a:pt x="7392" y="2208"/>
                </a:cubicBezTo>
                <a:cubicBezTo>
                  <a:pt x="7296" y="2226"/>
                  <a:pt x="7045" y="2309"/>
                  <a:pt x="7144" y="2480"/>
                </a:cubicBezTo>
                <a:cubicBezTo>
                  <a:pt x="7261" y="2682"/>
                  <a:pt x="7505" y="2463"/>
                  <a:pt x="7615" y="2406"/>
                </a:cubicBezTo>
              </a:path>
              <a:path w="3201" h="2308">
                <a:moveTo>
                  <a:pt x="7789" y="1736"/>
                </a:moveTo>
                <a:cubicBezTo>
                  <a:pt x="7724" y="1887"/>
                  <a:pt x="7787" y="2136"/>
                  <a:pt x="7789" y="2307"/>
                </a:cubicBezTo>
                <a:cubicBezTo>
                  <a:pt x="7789" y="2452"/>
                  <a:pt x="7774" y="2487"/>
                  <a:pt x="7838" y="2555"/>
                </a:cubicBezTo>
              </a:path>
              <a:path w="3201" h="2308">
                <a:moveTo>
                  <a:pt x="8111" y="2208"/>
                </a:moveTo>
                <a:cubicBezTo>
                  <a:pt x="8111" y="2382"/>
                  <a:pt x="8154" y="2594"/>
                  <a:pt x="8409" y="2480"/>
                </a:cubicBezTo>
                <a:cubicBezTo>
                  <a:pt x="8522" y="2430"/>
                  <a:pt x="8569" y="2335"/>
                  <a:pt x="8607" y="2232"/>
                </a:cubicBezTo>
                <a:cubicBezTo>
                  <a:pt x="8623" y="2376"/>
                  <a:pt x="8707" y="2589"/>
                  <a:pt x="8632" y="2729"/>
                </a:cubicBezTo>
                <a:cubicBezTo>
                  <a:pt x="8516" y="2944"/>
                  <a:pt x="8302" y="2883"/>
                  <a:pt x="8111" y="2877"/>
                </a:cubicBezTo>
              </a:path>
              <a:path w="3201" h="2308">
                <a:moveTo>
                  <a:pt x="5457" y="3299"/>
                </a:moveTo>
                <a:cubicBezTo>
                  <a:pt x="5457" y="3480"/>
                  <a:pt x="5437" y="3667"/>
                  <a:pt x="5482" y="3845"/>
                </a:cubicBezTo>
                <a:cubicBezTo>
                  <a:pt x="5498" y="3878"/>
                  <a:pt x="5515" y="3911"/>
                  <a:pt x="5531" y="3944"/>
                </a:cubicBezTo>
                <a:cubicBezTo>
                  <a:pt x="5758" y="3875"/>
                  <a:pt x="5758" y="3695"/>
                  <a:pt x="5804" y="3473"/>
                </a:cubicBezTo>
                <a:cubicBezTo>
                  <a:pt x="5804" y="3578"/>
                  <a:pt x="5775" y="3930"/>
                  <a:pt x="5953" y="3919"/>
                </a:cubicBezTo>
                <a:cubicBezTo>
                  <a:pt x="6011" y="3886"/>
                  <a:pt x="6069" y="3853"/>
                  <a:pt x="6127" y="3820"/>
                </a:cubicBezTo>
              </a:path>
              <a:path w="3201" h="2308">
                <a:moveTo>
                  <a:pt x="6251" y="3696"/>
                </a:moveTo>
                <a:cubicBezTo>
                  <a:pt x="6231" y="3795"/>
                  <a:pt x="6223" y="3811"/>
                  <a:pt x="6226" y="3870"/>
                </a:cubicBezTo>
                <a:cubicBezTo>
                  <a:pt x="6255" y="3790"/>
                  <a:pt x="6255" y="3681"/>
                  <a:pt x="6325" y="3646"/>
                </a:cubicBezTo>
                <a:cubicBezTo>
                  <a:pt x="6523" y="3919"/>
                  <a:pt x="6569" y="3818"/>
                  <a:pt x="6821" y="3621"/>
                </a:cubicBezTo>
              </a:path>
              <a:path w="3201" h="2308">
                <a:moveTo>
                  <a:pt x="6995" y="3175"/>
                </a:moveTo>
                <a:cubicBezTo>
                  <a:pt x="6928" y="3331"/>
                  <a:pt x="6932" y="3591"/>
                  <a:pt x="6921" y="3770"/>
                </a:cubicBezTo>
                <a:cubicBezTo>
                  <a:pt x="6921" y="3861"/>
                  <a:pt x="6888" y="3902"/>
                  <a:pt x="6945" y="3894"/>
                </a:cubicBezTo>
              </a:path>
              <a:path w="3201" h="2308">
                <a:moveTo>
                  <a:pt x="7169" y="3621"/>
                </a:moveTo>
                <a:cubicBezTo>
                  <a:pt x="7169" y="3712"/>
                  <a:pt x="7169" y="3886"/>
                  <a:pt x="7169" y="37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78040" y="1116000"/>
            <a:ext cx="652680" cy="393840"/>
          </a:xfrm>
          <a:custGeom>
            <a:avLst/>
            <a:gdLst/>
            <a:ahLst/>
            <a:rect l="l" t="t" r="r" b="b"/>
            <a:pathLst>
              <a:path w="1812" h="1092">
                <a:moveTo>
                  <a:pt x="7441" y="3175"/>
                </a:moveTo>
                <a:cubicBezTo>
                  <a:pt x="7497" y="3249"/>
                  <a:pt x="7483" y="3474"/>
                  <a:pt x="7491" y="3547"/>
                </a:cubicBezTo>
                <a:cubicBezTo>
                  <a:pt x="7513" y="3757"/>
                  <a:pt x="7516" y="4032"/>
                  <a:pt x="7565" y="3646"/>
                </a:cubicBezTo>
              </a:path>
              <a:path w="1812" h="1092">
                <a:moveTo>
                  <a:pt x="7714" y="3274"/>
                </a:moveTo>
                <a:cubicBezTo>
                  <a:pt x="7622" y="3375"/>
                  <a:pt x="7565" y="3437"/>
                  <a:pt x="7466" y="3522"/>
                </a:cubicBezTo>
                <a:cubicBezTo>
                  <a:pt x="7598" y="3570"/>
                  <a:pt x="7727" y="3671"/>
                  <a:pt x="7838" y="3770"/>
                </a:cubicBezTo>
                <a:cubicBezTo>
                  <a:pt x="7846" y="3778"/>
                  <a:pt x="7855" y="3787"/>
                  <a:pt x="7863" y="3795"/>
                </a:cubicBezTo>
              </a:path>
              <a:path w="1812" h="1092">
                <a:moveTo>
                  <a:pt x="8037" y="3572"/>
                </a:moveTo>
                <a:cubicBezTo>
                  <a:pt x="8055" y="3570"/>
                  <a:pt x="8210" y="3570"/>
                  <a:pt x="8186" y="3522"/>
                </a:cubicBezTo>
                <a:cubicBezTo>
                  <a:pt x="8178" y="3514"/>
                  <a:pt x="8169" y="3505"/>
                  <a:pt x="8161" y="3497"/>
                </a:cubicBezTo>
                <a:cubicBezTo>
                  <a:pt x="8027" y="3498"/>
                  <a:pt x="7814" y="3640"/>
                  <a:pt x="8012" y="3795"/>
                </a:cubicBezTo>
                <a:cubicBezTo>
                  <a:pt x="8142" y="3821"/>
                  <a:pt x="8188" y="3826"/>
                  <a:pt x="8260" y="3746"/>
                </a:cubicBezTo>
              </a:path>
              <a:path w="1812" h="1092">
                <a:moveTo>
                  <a:pt x="8483" y="3101"/>
                </a:moveTo>
                <a:cubicBezTo>
                  <a:pt x="8534" y="3328"/>
                  <a:pt x="8530" y="3601"/>
                  <a:pt x="8607" y="3820"/>
                </a:cubicBezTo>
                <a:cubicBezTo>
                  <a:pt x="8624" y="3837"/>
                  <a:pt x="8640" y="3853"/>
                  <a:pt x="8657" y="3870"/>
                </a:cubicBezTo>
                <a:cubicBezTo>
                  <a:pt x="8761" y="3773"/>
                  <a:pt x="8841" y="3663"/>
                  <a:pt x="8930" y="3547"/>
                </a:cubicBezTo>
                <a:cubicBezTo>
                  <a:pt x="8946" y="3682"/>
                  <a:pt x="8979" y="3912"/>
                  <a:pt x="9153" y="3721"/>
                </a:cubicBezTo>
                <a:cubicBezTo>
                  <a:pt x="9220" y="3609"/>
                  <a:pt x="9241" y="3581"/>
                  <a:pt x="9252" y="3497"/>
                </a:cubicBezTo>
                <a:cubicBezTo>
                  <a:pt x="9240" y="3654"/>
                  <a:pt x="9228" y="3847"/>
                  <a:pt x="9178" y="3994"/>
                </a:cubicBezTo>
                <a:cubicBezTo>
                  <a:pt x="9105" y="4208"/>
                  <a:pt x="8914" y="4192"/>
                  <a:pt x="8731" y="41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0" y="1598760"/>
            <a:ext cx="37620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8930" y="5184"/>
                </a:moveTo>
                <a:cubicBezTo>
                  <a:pt x="8949" y="5283"/>
                  <a:pt x="8957" y="5299"/>
                  <a:pt x="8954" y="5358"/>
                </a:cubicBezTo>
              </a:path>
              <a:path w="1043" h="919">
                <a:moveTo>
                  <a:pt x="8954" y="5358"/>
                </a:moveTo>
                <a:lnTo>
                  <a:pt x="8954" y="5358"/>
                </a:lnTo>
              </a:path>
              <a:path w="1043" h="919">
                <a:moveTo>
                  <a:pt x="8781" y="4688"/>
                </a:moveTo>
                <a:cubicBezTo>
                  <a:pt x="8789" y="4680"/>
                  <a:pt x="8798" y="4671"/>
                  <a:pt x="8806" y="4663"/>
                </a:cubicBezTo>
              </a:path>
              <a:path w="1043" h="919">
                <a:moveTo>
                  <a:pt x="9550" y="4440"/>
                </a:moveTo>
                <a:cubicBezTo>
                  <a:pt x="9640" y="4704"/>
                  <a:pt x="9723" y="4975"/>
                  <a:pt x="9823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5320" y="1598760"/>
            <a:ext cx="1963800" cy="527040"/>
          </a:xfrm>
          <a:custGeom>
            <a:avLst/>
            <a:gdLst/>
            <a:ahLst/>
            <a:rect l="l" t="t" r="r" b="b"/>
            <a:pathLst>
              <a:path w="5458" h="1465">
                <a:moveTo>
                  <a:pt x="5457" y="4663"/>
                </a:moveTo>
                <a:cubicBezTo>
                  <a:pt x="5487" y="4887"/>
                  <a:pt x="5553" y="5107"/>
                  <a:pt x="5581" y="5333"/>
                </a:cubicBezTo>
                <a:cubicBezTo>
                  <a:pt x="5581" y="5383"/>
                  <a:pt x="5581" y="5400"/>
                  <a:pt x="5581" y="5333"/>
                </a:cubicBezTo>
              </a:path>
              <a:path w="5458" h="1465">
                <a:moveTo>
                  <a:pt x="4986" y="4713"/>
                </a:moveTo>
                <a:cubicBezTo>
                  <a:pt x="5234" y="4680"/>
                  <a:pt x="5482" y="4555"/>
                  <a:pt x="5730" y="4539"/>
                </a:cubicBezTo>
                <a:cubicBezTo>
                  <a:pt x="5846" y="4562"/>
                  <a:pt x="5885" y="4563"/>
                  <a:pt x="5879" y="4663"/>
                </a:cubicBezTo>
              </a:path>
              <a:path w="5458" h="1465">
                <a:moveTo>
                  <a:pt x="5159" y="5507"/>
                </a:moveTo>
                <a:cubicBezTo>
                  <a:pt x="5399" y="5491"/>
                  <a:pt x="5643" y="5462"/>
                  <a:pt x="5879" y="5407"/>
                </a:cubicBezTo>
                <a:cubicBezTo>
                  <a:pt x="5904" y="5399"/>
                  <a:pt x="5928" y="5391"/>
                  <a:pt x="5953" y="5383"/>
                </a:cubicBezTo>
              </a:path>
              <a:path w="5458" h="1465">
                <a:moveTo>
                  <a:pt x="6003" y="5209"/>
                </a:moveTo>
                <a:cubicBezTo>
                  <a:pt x="6031" y="5308"/>
                  <a:pt x="6054" y="5407"/>
                  <a:pt x="6077" y="5507"/>
                </a:cubicBezTo>
                <a:cubicBezTo>
                  <a:pt x="6139" y="5486"/>
                  <a:pt x="6093" y="5290"/>
                  <a:pt x="6152" y="5209"/>
                </a:cubicBezTo>
                <a:cubicBezTo>
                  <a:pt x="6292" y="5016"/>
                  <a:pt x="6451" y="5254"/>
                  <a:pt x="6499" y="5383"/>
                </a:cubicBezTo>
                <a:cubicBezTo>
                  <a:pt x="6499" y="5417"/>
                  <a:pt x="6490" y="5421"/>
                  <a:pt x="6449" y="5383"/>
                </a:cubicBezTo>
                <a:cubicBezTo>
                  <a:pt x="6474" y="5289"/>
                  <a:pt x="6546" y="4987"/>
                  <a:pt x="6722" y="5135"/>
                </a:cubicBezTo>
                <a:cubicBezTo>
                  <a:pt x="6812" y="5211"/>
                  <a:pt x="6831" y="5353"/>
                  <a:pt x="6846" y="5457"/>
                </a:cubicBezTo>
              </a:path>
              <a:path w="5458" h="1465">
                <a:moveTo>
                  <a:pt x="7069" y="5259"/>
                </a:moveTo>
                <a:cubicBezTo>
                  <a:pt x="7116" y="5475"/>
                  <a:pt x="7317" y="6102"/>
                  <a:pt x="7218" y="5904"/>
                </a:cubicBezTo>
                <a:cubicBezTo>
                  <a:pt x="7210" y="5879"/>
                  <a:pt x="7201" y="5854"/>
                  <a:pt x="7193" y="5829"/>
                </a:cubicBezTo>
              </a:path>
              <a:path w="5458" h="1465">
                <a:moveTo>
                  <a:pt x="6896" y="5135"/>
                </a:moveTo>
                <a:cubicBezTo>
                  <a:pt x="7175" y="5013"/>
                  <a:pt x="7298" y="5003"/>
                  <a:pt x="7491" y="5234"/>
                </a:cubicBezTo>
                <a:cubicBezTo>
                  <a:pt x="7365" y="5371"/>
                  <a:pt x="7097" y="5677"/>
                  <a:pt x="7119" y="5358"/>
                </a:cubicBezTo>
              </a:path>
              <a:path w="5458" h="1465">
                <a:moveTo>
                  <a:pt x="7739" y="5011"/>
                </a:moveTo>
                <a:cubicBezTo>
                  <a:pt x="7570" y="5129"/>
                  <a:pt x="7580" y="5119"/>
                  <a:pt x="7590" y="5333"/>
                </a:cubicBezTo>
                <a:cubicBezTo>
                  <a:pt x="7715" y="5361"/>
                  <a:pt x="8029" y="5352"/>
                  <a:pt x="7888" y="5110"/>
                </a:cubicBezTo>
                <a:cubicBezTo>
                  <a:pt x="7803" y="4965"/>
                  <a:pt x="7687" y="5061"/>
                  <a:pt x="7590" y="5110"/>
                </a:cubicBezTo>
              </a:path>
              <a:path w="5458" h="1465">
                <a:moveTo>
                  <a:pt x="8086" y="4961"/>
                </a:moveTo>
                <a:cubicBezTo>
                  <a:pt x="8007" y="5020"/>
                  <a:pt x="7974" y="5020"/>
                  <a:pt x="7987" y="5085"/>
                </a:cubicBezTo>
                <a:cubicBezTo>
                  <a:pt x="8134" y="5114"/>
                  <a:pt x="8251" y="5142"/>
                  <a:pt x="8384" y="5209"/>
                </a:cubicBezTo>
                <a:cubicBezTo>
                  <a:pt x="8187" y="5333"/>
                  <a:pt x="7983" y="5491"/>
                  <a:pt x="8037" y="5209"/>
                </a:cubicBezTo>
              </a:path>
              <a:path w="5458" h="1465">
                <a:moveTo>
                  <a:pt x="8533" y="4887"/>
                </a:moveTo>
                <a:cubicBezTo>
                  <a:pt x="8428" y="4950"/>
                  <a:pt x="8394" y="4953"/>
                  <a:pt x="8384" y="5035"/>
                </a:cubicBezTo>
                <a:cubicBezTo>
                  <a:pt x="8437" y="5055"/>
                  <a:pt x="8847" y="5122"/>
                  <a:pt x="8756" y="5234"/>
                </a:cubicBezTo>
                <a:cubicBezTo>
                  <a:pt x="8610" y="5414"/>
                  <a:pt x="8366" y="5422"/>
                  <a:pt x="8582" y="5110"/>
                </a:cubicBezTo>
              </a:path>
              <a:path w="5458" h="1465">
                <a:moveTo>
                  <a:pt x="9004" y="4440"/>
                </a:moveTo>
                <a:cubicBezTo>
                  <a:pt x="9113" y="4685"/>
                  <a:pt x="9207" y="4933"/>
                  <a:pt x="9302" y="5184"/>
                </a:cubicBezTo>
                <a:cubicBezTo>
                  <a:pt x="9302" y="5076"/>
                  <a:pt x="9336" y="4882"/>
                  <a:pt x="9475" y="4862"/>
                </a:cubicBezTo>
                <a:cubicBezTo>
                  <a:pt x="9508" y="4878"/>
                  <a:pt x="9542" y="4895"/>
                  <a:pt x="9575" y="4911"/>
                </a:cubicBezTo>
                <a:cubicBezTo>
                  <a:pt x="9555" y="5045"/>
                  <a:pt x="9450" y="5361"/>
                  <a:pt x="9227" y="5184"/>
                </a:cubicBezTo>
                <a:cubicBezTo>
                  <a:pt x="9211" y="5143"/>
                  <a:pt x="9194" y="5101"/>
                  <a:pt x="9178" y="5060"/>
                </a:cubicBezTo>
              </a:path>
              <a:path w="5458" h="1465">
                <a:moveTo>
                  <a:pt x="10046" y="4837"/>
                </a:moveTo>
                <a:cubicBezTo>
                  <a:pt x="10141" y="4906"/>
                  <a:pt x="10232" y="4948"/>
                  <a:pt x="10269" y="5060"/>
                </a:cubicBezTo>
                <a:cubicBezTo>
                  <a:pt x="10276" y="4996"/>
                  <a:pt x="10303" y="4938"/>
                  <a:pt x="10269" y="4887"/>
                </a:cubicBezTo>
                <a:cubicBezTo>
                  <a:pt x="10223" y="4818"/>
                  <a:pt x="10042" y="4827"/>
                  <a:pt x="10021" y="4911"/>
                </a:cubicBezTo>
                <a:cubicBezTo>
                  <a:pt x="9964" y="5138"/>
                  <a:pt x="10254" y="5170"/>
                  <a:pt x="10393" y="5135"/>
                </a:cubicBezTo>
                <a:cubicBezTo>
                  <a:pt x="10410" y="5127"/>
                  <a:pt x="10426" y="5118"/>
                  <a:pt x="10443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6640" y="74124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6350" y="2084"/>
                </a:moveTo>
                <a:cubicBezTo>
                  <a:pt x="6342" y="2076"/>
                  <a:pt x="6333" y="2067"/>
                  <a:pt x="6325" y="20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76640" y="741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325" y="2059"/>
                </a:moveTo>
                <a:lnTo>
                  <a:pt x="6325" y="205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81200" y="1366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169" y="3795"/>
                </a:moveTo>
                <a:lnTo>
                  <a:pt x="7169" y="379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62120" y="1177920"/>
            <a:ext cx="190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7169" y="3274"/>
                </a:moveTo>
                <a:cubicBezTo>
                  <a:pt x="7152" y="3274"/>
                  <a:pt x="7136" y="3274"/>
                  <a:pt x="7119" y="32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04960" y="231840"/>
            <a:ext cx="233280" cy="304560"/>
          </a:xfrm>
          <a:custGeom>
            <a:avLst/>
            <a:gdLst/>
            <a:ahLst/>
            <a:rect l="l" t="t" r="r" b="b"/>
            <a:pathLst>
              <a:path w="646" h="844">
                <a:moveTo>
                  <a:pt x="5135" y="719"/>
                </a:moveTo>
                <a:cubicBezTo>
                  <a:pt x="5150" y="769"/>
                  <a:pt x="5148" y="831"/>
                  <a:pt x="5184" y="843"/>
                </a:cubicBezTo>
                <a:cubicBezTo>
                  <a:pt x="5141" y="792"/>
                  <a:pt x="5083" y="617"/>
                  <a:pt x="5011" y="645"/>
                </a:cubicBezTo>
                <a:cubicBezTo>
                  <a:pt x="4826" y="717"/>
                  <a:pt x="4623" y="1276"/>
                  <a:pt x="4787" y="1439"/>
                </a:cubicBezTo>
                <a:cubicBezTo>
                  <a:pt x="4971" y="1622"/>
                  <a:pt x="5250" y="1405"/>
                  <a:pt x="5383" y="12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347760"/>
            <a:ext cx="150840" cy="179280"/>
          </a:xfrm>
          <a:custGeom>
            <a:avLst/>
            <a:gdLst/>
            <a:ahLst/>
            <a:rect l="l" t="t" r="r" b="b"/>
            <a:pathLst>
              <a:path w="422" h="497">
                <a:moveTo>
                  <a:pt x="5482" y="1215"/>
                </a:moveTo>
                <a:cubicBezTo>
                  <a:pt x="5519" y="1205"/>
                  <a:pt x="5750" y="1149"/>
                  <a:pt x="5755" y="1116"/>
                </a:cubicBezTo>
                <a:cubicBezTo>
                  <a:pt x="5747" y="1091"/>
                  <a:pt x="5738" y="1067"/>
                  <a:pt x="5730" y="1042"/>
                </a:cubicBezTo>
                <a:cubicBezTo>
                  <a:pt x="5576" y="935"/>
                  <a:pt x="5437" y="960"/>
                  <a:pt x="5383" y="1191"/>
                </a:cubicBezTo>
                <a:cubicBezTo>
                  <a:pt x="5383" y="1353"/>
                  <a:pt x="5375" y="1403"/>
                  <a:pt x="5482" y="1463"/>
                </a:cubicBezTo>
                <a:cubicBezTo>
                  <a:pt x="5714" y="1428"/>
                  <a:pt x="5682" y="1425"/>
                  <a:pt x="5804" y="12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98800" y="357120"/>
            <a:ext cx="11592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5829" y="1116"/>
                </a:moveTo>
                <a:cubicBezTo>
                  <a:pt x="5842" y="1208"/>
                  <a:pt x="5864" y="1278"/>
                  <a:pt x="5904" y="1364"/>
                </a:cubicBezTo>
                <a:cubicBezTo>
                  <a:pt x="5913" y="1273"/>
                  <a:pt x="5909" y="1061"/>
                  <a:pt x="6028" y="1017"/>
                </a:cubicBezTo>
                <a:cubicBezTo>
                  <a:pt x="6069" y="1009"/>
                  <a:pt x="6111" y="1000"/>
                  <a:pt x="6152" y="9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76640" y="223920"/>
            <a:ext cx="206280" cy="320760"/>
          </a:xfrm>
          <a:custGeom>
            <a:avLst/>
            <a:gdLst/>
            <a:ahLst/>
            <a:rect l="l" t="t" r="r" b="b"/>
            <a:pathLst>
              <a:path w="572" h="894">
                <a:moveTo>
                  <a:pt x="6325" y="620"/>
                </a:moveTo>
                <a:cubicBezTo>
                  <a:pt x="6358" y="872"/>
                  <a:pt x="6358" y="1156"/>
                  <a:pt x="6474" y="1389"/>
                </a:cubicBezTo>
                <a:cubicBezTo>
                  <a:pt x="6565" y="1570"/>
                  <a:pt x="6712" y="1523"/>
                  <a:pt x="6821" y="1389"/>
                </a:cubicBezTo>
                <a:cubicBezTo>
                  <a:pt x="6846" y="1348"/>
                  <a:pt x="6871" y="1306"/>
                  <a:pt x="6896" y="12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41720" y="330120"/>
            <a:ext cx="250560" cy="54000"/>
          </a:xfrm>
          <a:custGeom>
            <a:avLst/>
            <a:gdLst/>
            <a:ahLst/>
            <a:rect l="l" t="t" r="r" b="b"/>
            <a:pathLst>
              <a:path w="696" h="150">
                <a:moveTo>
                  <a:pt x="6226" y="1067"/>
                </a:moveTo>
                <a:cubicBezTo>
                  <a:pt x="6472" y="993"/>
                  <a:pt x="6667" y="920"/>
                  <a:pt x="6921" y="9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47760"/>
            <a:ext cx="544680" cy="152280"/>
          </a:xfrm>
          <a:custGeom>
            <a:avLst/>
            <a:gdLst/>
            <a:ahLst/>
            <a:rect l="l" t="t" r="r" b="b"/>
            <a:pathLst>
              <a:path w="1514" h="423">
                <a:moveTo>
                  <a:pt x="7243" y="992"/>
                </a:moveTo>
                <a:cubicBezTo>
                  <a:pt x="7085" y="913"/>
                  <a:pt x="6923" y="998"/>
                  <a:pt x="6821" y="1141"/>
                </a:cubicBezTo>
                <a:cubicBezTo>
                  <a:pt x="6651" y="1380"/>
                  <a:pt x="6928" y="1461"/>
                  <a:pt x="7069" y="1290"/>
                </a:cubicBezTo>
                <a:cubicBezTo>
                  <a:pt x="7094" y="1240"/>
                  <a:pt x="7119" y="1191"/>
                  <a:pt x="7144" y="1141"/>
                </a:cubicBezTo>
                <a:cubicBezTo>
                  <a:pt x="7136" y="1116"/>
                  <a:pt x="7127" y="1092"/>
                  <a:pt x="7119" y="1067"/>
                </a:cubicBezTo>
                <a:cubicBezTo>
                  <a:pt x="7158" y="1136"/>
                  <a:pt x="7207" y="1279"/>
                  <a:pt x="7293" y="1315"/>
                </a:cubicBezTo>
                <a:cubicBezTo>
                  <a:pt x="7428" y="1372"/>
                  <a:pt x="7455" y="1167"/>
                  <a:pt x="7466" y="1091"/>
                </a:cubicBezTo>
                <a:cubicBezTo>
                  <a:pt x="7472" y="1187"/>
                  <a:pt x="7446" y="1303"/>
                  <a:pt x="7541" y="1364"/>
                </a:cubicBezTo>
                <a:cubicBezTo>
                  <a:pt x="7642" y="1429"/>
                  <a:pt x="7741" y="1144"/>
                  <a:pt x="7764" y="1091"/>
                </a:cubicBezTo>
                <a:cubicBezTo>
                  <a:pt x="7764" y="1186"/>
                  <a:pt x="7771" y="1192"/>
                  <a:pt x="7813" y="1290"/>
                </a:cubicBezTo>
                <a:cubicBezTo>
                  <a:pt x="7868" y="1218"/>
                  <a:pt x="7840" y="1168"/>
                  <a:pt x="7888" y="1091"/>
                </a:cubicBezTo>
                <a:cubicBezTo>
                  <a:pt x="7977" y="948"/>
                  <a:pt x="8167" y="1063"/>
                  <a:pt x="8235" y="1166"/>
                </a:cubicBezTo>
                <a:cubicBezTo>
                  <a:pt x="8258" y="1257"/>
                  <a:pt x="8264" y="1283"/>
                  <a:pt x="8285" y="13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87760" y="25884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491" y="744"/>
                </a:moveTo>
                <a:cubicBezTo>
                  <a:pt x="7466" y="744"/>
                  <a:pt x="7458" y="744"/>
                  <a:pt x="7466" y="7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707920"/>
            <a:ext cx="863748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ssing a coin is an example of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come: possible result of an experiment (such as he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: Collection of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2680" y="3741840"/>
            <a:ext cx="1822320" cy="98280"/>
          </a:xfrm>
          <a:custGeom>
            <a:avLst/>
            <a:gdLst/>
            <a:ahLst/>
            <a:rect l="l" t="t" r="r" b="b"/>
            <a:pathLst>
              <a:path w="5061" h="274">
                <a:moveTo>
                  <a:pt x="17314" y="10567"/>
                </a:moveTo>
                <a:cubicBezTo>
                  <a:pt x="17436" y="10618"/>
                  <a:pt x="17544" y="10690"/>
                  <a:pt x="17686" y="10666"/>
                </a:cubicBezTo>
                <a:cubicBezTo>
                  <a:pt x="17820" y="10643"/>
                  <a:pt x="17919" y="10524"/>
                  <a:pt x="18008" y="10468"/>
                </a:cubicBezTo>
                <a:cubicBezTo>
                  <a:pt x="18016" y="10468"/>
                  <a:pt x="18025" y="10468"/>
                  <a:pt x="18033" y="10468"/>
                </a:cubicBezTo>
                <a:cubicBezTo>
                  <a:pt x="18088" y="10536"/>
                  <a:pt x="18066" y="10628"/>
                  <a:pt x="18207" y="10616"/>
                </a:cubicBezTo>
                <a:cubicBezTo>
                  <a:pt x="18351" y="10604"/>
                  <a:pt x="18469" y="10506"/>
                  <a:pt x="18579" y="10517"/>
                </a:cubicBezTo>
                <a:cubicBezTo>
                  <a:pt x="18709" y="10530"/>
                  <a:pt x="18839" y="10568"/>
                  <a:pt x="18976" y="10517"/>
                </a:cubicBezTo>
                <a:cubicBezTo>
                  <a:pt x="19089" y="10475"/>
                  <a:pt x="19000" y="10514"/>
                  <a:pt x="19100" y="10517"/>
                </a:cubicBezTo>
                <a:cubicBezTo>
                  <a:pt x="19232" y="10520"/>
                  <a:pt x="19295" y="10540"/>
                  <a:pt x="19422" y="10492"/>
                </a:cubicBezTo>
                <a:cubicBezTo>
                  <a:pt x="19488" y="10467"/>
                  <a:pt x="19496" y="10426"/>
                  <a:pt x="19546" y="10393"/>
                </a:cubicBezTo>
                <a:cubicBezTo>
                  <a:pt x="19633" y="10466"/>
                  <a:pt x="19675" y="10508"/>
                  <a:pt x="19794" y="10517"/>
                </a:cubicBezTo>
                <a:cubicBezTo>
                  <a:pt x="19885" y="10524"/>
                  <a:pt x="19969" y="10438"/>
                  <a:pt x="20042" y="10443"/>
                </a:cubicBezTo>
                <a:cubicBezTo>
                  <a:pt x="20103" y="10448"/>
                  <a:pt x="20234" y="10525"/>
                  <a:pt x="20340" y="10517"/>
                </a:cubicBezTo>
                <a:cubicBezTo>
                  <a:pt x="20419" y="10511"/>
                  <a:pt x="20499" y="10482"/>
                  <a:pt x="20538" y="10492"/>
                </a:cubicBezTo>
                <a:cubicBezTo>
                  <a:pt x="20739" y="10542"/>
                  <a:pt x="20836" y="10577"/>
                  <a:pt x="21059" y="10542"/>
                </a:cubicBezTo>
                <a:cubicBezTo>
                  <a:pt x="21312" y="10503"/>
                  <a:pt x="21113" y="10530"/>
                  <a:pt x="21282" y="10592"/>
                </a:cubicBezTo>
                <a:cubicBezTo>
                  <a:pt x="21421" y="10643"/>
                  <a:pt x="21613" y="10618"/>
                  <a:pt x="21754" y="10592"/>
                </a:cubicBezTo>
                <a:cubicBezTo>
                  <a:pt x="21854" y="10574"/>
                  <a:pt x="21941" y="10567"/>
                  <a:pt x="22051" y="10567"/>
                </a:cubicBezTo>
                <a:cubicBezTo>
                  <a:pt x="22159" y="10567"/>
                  <a:pt x="22266" y="10567"/>
                  <a:pt x="22374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4280" y="648324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3373" y="18033"/>
                </a:moveTo>
                <a:cubicBezTo>
                  <a:pt x="3373" y="18025"/>
                  <a:pt x="3373" y="18016"/>
                  <a:pt x="3373" y="180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040" y="4340160"/>
            <a:ext cx="4071960" cy="98640"/>
          </a:xfrm>
          <a:custGeom>
            <a:avLst/>
            <a:gdLst/>
            <a:ahLst/>
            <a:rect l="l" t="t" r="r" b="b"/>
            <a:pathLst>
              <a:path w="11312" h="274">
                <a:moveTo>
                  <a:pt x="1389" y="12303"/>
                </a:moveTo>
                <a:cubicBezTo>
                  <a:pt x="1658" y="12303"/>
                  <a:pt x="1919" y="12324"/>
                  <a:pt x="2183" y="12328"/>
                </a:cubicBezTo>
                <a:cubicBezTo>
                  <a:pt x="2281" y="12329"/>
                  <a:pt x="2365" y="12315"/>
                  <a:pt x="2456" y="12303"/>
                </a:cubicBezTo>
                <a:cubicBezTo>
                  <a:pt x="2534" y="12293"/>
                  <a:pt x="2604" y="12288"/>
                  <a:pt x="2679" y="12278"/>
                </a:cubicBezTo>
                <a:cubicBezTo>
                  <a:pt x="2759" y="12268"/>
                  <a:pt x="2843" y="12263"/>
                  <a:pt x="2927" y="12254"/>
                </a:cubicBezTo>
                <a:cubicBezTo>
                  <a:pt x="3079" y="12238"/>
                  <a:pt x="3243" y="12199"/>
                  <a:pt x="3398" y="12204"/>
                </a:cubicBezTo>
                <a:cubicBezTo>
                  <a:pt x="3521" y="12208"/>
                  <a:pt x="3668" y="12218"/>
                  <a:pt x="3795" y="12229"/>
                </a:cubicBezTo>
                <a:cubicBezTo>
                  <a:pt x="3912" y="12239"/>
                  <a:pt x="4023" y="12249"/>
                  <a:pt x="4142" y="12254"/>
                </a:cubicBezTo>
                <a:cubicBezTo>
                  <a:pt x="4487" y="12268"/>
                  <a:pt x="4848" y="12266"/>
                  <a:pt x="5184" y="12229"/>
                </a:cubicBezTo>
                <a:cubicBezTo>
                  <a:pt x="5246" y="12222"/>
                  <a:pt x="5321" y="12216"/>
                  <a:pt x="5383" y="12204"/>
                </a:cubicBezTo>
                <a:cubicBezTo>
                  <a:pt x="5432" y="12195"/>
                  <a:pt x="5482" y="12189"/>
                  <a:pt x="5531" y="12179"/>
                </a:cubicBezTo>
                <a:cubicBezTo>
                  <a:pt x="5615" y="12162"/>
                  <a:pt x="5693" y="12142"/>
                  <a:pt x="5779" y="12129"/>
                </a:cubicBezTo>
                <a:cubicBezTo>
                  <a:pt x="5914" y="12109"/>
                  <a:pt x="6061" y="12086"/>
                  <a:pt x="6201" y="12080"/>
                </a:cubicBezTo>
                <a:cubicBezTo>
                  <a:pt x="6360" y="12074"/>
                  <a:pt x="6517" y="12061"/>
                  <a:pt x="6672" y="12055"/>
                </a:cubicBezTo>
                <a:cubicBezTo>
                  <a:pt x="6930" y="12046"/>
                  <a:pt x="7187" y="12069"/>
                  <a:pt x="7441" y="12080"/>
                </a:cubicBezTo>
                <a:cubicBezTo>
                  <a:pt x="7699" y="12091"/>
                  <a:pt x="7954" y="12084"/>
                  <a:pt x="8210" y="12105"/>
                </a:cubicBezTo>
                <a:cubicBezTo>
                  <a:pt x="8391" y="12119"/>
                  <a:pt x="8576" y="12134"/>
                  <a:pt x="8756" y="12154"/>
                </a:cubicBezTo>
                <a:cubicBezTo>
                  <a:pt x="8930" y="12173"/>
                  <a:pt x="9103" y="12208"/>
                  <a:pt x="9277" y="12229"/>
                </a:cubicBezTo>
                <a:cubicBezTo>
                  <a:pt x="9525" y="12259"/>
                  <a:pt x="9778" y="12239"/>
                  <a:pt x="10021" y="12254"/>
                </a:cubicBezTo>
                <a:cubicBezTo>
                  <a:pt x="10194" y="12265"/>
                  <a:pt x="10365" y="12278"/>
                  <a:pt x="10542" y="12278"/>
                </a:cubicBezTo>
                <a:cubicBezTo>
                  <a:pt x="11047" y="12278"/>
                  <a:pt x="11556" y="12267"/>
                  <a:pt x="12055" y="12278"/>
                </a:cubicBezTo>
                <a:cubicBezTo>
                  <a:pt x="12228" y="12282"/>
                  <a:pt x="12596" y="12278"/>
                  <a:pt x="12675" y="12278"/>
                </a:cubicBezTo>
                <a:cubicBezTo>
                  <a:pt x="12659" y="12278"/>
                  <a:pt x="12642" y="12278"/>
                  <a:pt x="12626" y="122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6040" y="5483160"/>
            <a:ext cx="5027760" cy="115920"/>
          </a:xfrm>
          <a:custGeom>
            <a:avLst/>
            <a:gdLst/>
            <a:ahLst/>
            <a:rect l="l" t="t" r="r" b="b"/>
            <a:pathLst>
              <a:path w="13966" h="324">
                <a:moveTo>
                  <a:pt x="1265" y="15553"/>
                </a:moveTo>
                <a:cubicBezTo>
                  <a:pt x="1306" y="15553"/>
                  <a:pt x="1298" y="15553"/>
                  <a:pt x="1339" y="15553"/>
                </a:cubicBezTo>
                <a:cubicBezTo>
                  <a:pt x="1565" y="15553"/>
                  <a:pt x="1786" y="15534"/>
                  <a:pt x="2009" y="15528"/>
                </a:cubicBezTo>
                <a:cubicBezTo>
                  <a:pt x="2186" y="15523"/>
                  <a:pt x="2360" y="15538"/>
                  <a:pt x="2530" y="15528"/>
                </a:cubicBezTo>
                <a:cubicBezTo>
                  <a:pt x="2732" y="15517"/>
                  <a:pt x="2921" y="15483"/>
                  <a:pt x="3125" y="15478"/>
                </a:cubicBezTo>
                <a:cubicBezTo>
                  <a:pt x="3332" y="15473"/>
                  <a:pt x="3545" y="15460"/>
                  <a:pt x="3746" y="15453"/>
                </a:cubicBezTo>
                <a:cubicBezTo>
                  <a:pt x="4375" y="15433"/>
                  <a:pt x="5009" y="15429"/>
                  <a:pt x="5631" y="15404"/>
                </a:cubicBezTo>
                <a:cubicBezTo>
                  <a:pt x="5962" y="15391"/>
                  <a:pt x="6292" y="15383"/>
                  <a:pt x="6623" y="15379"/>
                </a:cubicBezTo>
                <a:cubicBezTo>
                  <a:pt x="6925" y="15376"/>
                  <a:pt x="7217" y="15354"/>
                  <a:pt x="7516" y="15329"/>
                </a:cubicBezTo>
                <a:cubicBezTo>
                  <a:pt x="7721" y="15312"/>
                  <a:pt x="7930" y="15296"/>
                  <a:pt x="8136" y="15304"/>
                </a:cubicBezTo>
                <a:cubicBezTo>
                  <a:pt x="8315" y="15311"/>
                  <a:pt x="8475" y="15317"/>
                  <a:pt x="8657" y="15304"/>
                </a:cubicBezTo>
                <a:cubicBezTo>
                  <a:pt x="9027" y="15277"/>
                  <a:pt x="9402" y="15259"/>
                  <a:pt x="9773" y="15255"/>
                </a:cubicBezTo>
                <a:cubicBezTo>
                  <a:pt x="9889" y="15254"/>
                  <a:pt x="10013" y="15276"/>
                  <a:pt x="10120" y="15280"/>
                </a:cubicBezTo>
                <a:cubicBezTo>
                  <a:pt x="10693" y="15299"/>
                  <a:pt x="11266" y="15244"/>
                  <a:pt x="11832" y="15255"/>
                </a:cubicBezTo>
                <a:cubicBezTo>
                  <a:pt x="12170" y="15261"/>
                  <a:pt x="12515" y="15254"/>
                  <a:pt x="12849" y="15304"/>
                </a:cubicBezTo>
                <a:cubicBezTo>
                  <a:pt x="13006" y="15328"/>
                  <a:pt x="13162" y="15370"/>
                  <a:pt x="13320" y="15379"/>
                </a:cubicBezTo>
                <a:cubicBezTo>
                  <a:pt x="13712" y="15400"/>
                  <a:pt x="14096" y="15390"/>
                  <a:pt x="14486" y="15379"/>
                </a:cubicBezTo>
                <a:cubicBezTo>
                  <a:pt x="14725" y="15372"/>
                  <a:pt x="14966" y="15379"/>
                  <a:pt x="15205" y="153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8400"/>
            <a:ext cx="8610480" cy="17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an event is the measure of the likelihood that the event will occu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6760" y="762120"/>
            <a:ext cx="8572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nding a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andomly choose a day of the week for sending an e-mail to your cousin. Find the probability that you choose Tues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e favorable outcome which is Tues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7 possible outcomes are “Sunday,” “Monday,” “Tuesday,” “Wednesday,” “Thursday,” “Friday,” and “Satur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hoosing Tuesd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3080" y="5410080"/>
          <a:ext cx="54738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5410080"/>
                    <a:ext cx="5473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152960" y="5375160"/>
            <a:ext cx="276120" cy="1027080"/>
          </a:xfrm>
          <a:custGeom>
            <a:avLst/>
            <a:gdLst/>
            <a:ahLst/>
            <a:rect l="l" t="t" r="r" b="b"/>
            <a:pathLst>
              <a:path w="770" h="2854">
                <a:moveTo>
                  <a:pt x="11584" y="16867"/>
                </a:moveTo>
                <a:cubicBezTo>
                  <a:pt x="11535" y="16851"/>
                  <a:pt x="11570" y="16835"/>
                  <a:pt x="11559" y="16892"/>
                </a:cubicBezTo>
                <a:cubicBezTo>
                  <a:pt x="11539" y="16991"/>
                  <a:pt x="11531" y="17007"/>
                  <a:pt x="11534" y="17066"/>
                </a:cubicBezTo>
                <a:cubicBezTo>
                  <a:pt x="11562" y="16944"/>
                  <a:pt x="11545" y="16835"/>
                  <a:pt x="11633" y="16718"/>
                </a:cubicBezTo>
                <a:cubicBezTo>
                  <a:pt x="11704" y="16624"/>
                  <a:pt x="11884" y="16650"/>
                  <a:pt x="11981" y="16644"/>
                </a:cubicBezTo>
                <a:cubicBezTo>
                  <a:pt x="12103" y="16637"/>
                  <a:pt x="12193" y="16591"/>
                  <a:pt x="12303" y="16545"/>
                </a:cubicBezTo>
                <a:cubicBezTo>
                  <a:pt x="12249" y="16835"/>
                  <a:pt x="12187" y="17128"/>
                  <a:pt x="12105" y="17413"/>
                </a:cubicBezTo>
                <a:cubicBezTo>
                  <a:pt x="12091" y="17462"/>
                  <a:pt x="11986" y="17760"/>
                  <a:pt x="12005" y="17760"/>
                </a:cubicBezTo>
                <a:cubicBezTo>
                  <a:pt x="12013" y="17752"/>
                  <a:pt x="12022" y="17743"/>
                  <a:pt x="12030" y="17735"/>
                </a:cubicBezTo>
              </a:path>
              <a:path w="770" h="2854">
                <a:moveTo>
                  <a:pt x="12005" y="14957"/>
                </a:moveTo>
                <a:cubicBezTo>
                  <a:pt x="11978" y="14871"/>
                  <a:pt x="11980" y="15015"/>
                  <a:pt x="11981" y="15032"/>
                </a:cubicBezTo>
                <a:cubicBezTo>
                  <a:pt x="12002" y="15341"/>
                  <a:pt x="11981" y="15640"/>
                  <a:pt x="11981" y="15949"/>
                </a:cubicBezTo>
                <a:cubicBezTo>
                  <a:pt x="11981" y="15925"/>
                  <a:pt x="11981" y="15916"/>
                  <a:pt x="11981" y="159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2960" y="5759280"/>
            <a:ext cx="5116320" cy="125640"/>
          </a:xfrm>
          <a:custGeom>
            <a:avLst/>
            <a:gdLst/>
            <a:ahLst/>
            <a:rect l="l" t="t" r="r" b="b"/>
            <a:pathLst>
              <a:path w="14214" h="348">
                <a:moveTo>
                  <a:pt x="5035" y="16297"/>
                </a:moveTo>
                <a:cubicBezTo>
                  <a:pt x="5343" y="16254"/>
                  <a:pt x="5644" y="16151"/>
                  <a:pt x="5953" y="16123"/>
                </a:cubicBezTo>
                <a:cubicBezTo>
                  <a:pt x="6384" y="16084"/>
                  <a:pt x="6818" y="16153"/>
                  <a:pt x="7243" y="16173"/>
                </a:cubicBezTo>
                <a:cubicBezTo>
                  <a:pt x="7833" y="16201"/>
                  <a:pt x="8399" y="16219"/>
                  <a:pt x="8979" y="16272"/>
                </a:cubicBezTo>
                <a:cubicBezTo>
                  <a:pt x="9120" y="16285"/>
                  <a:pt x="9258" y="16289"/>
                  <a:pt x="9401" y="16297"/>
                </a:cubicBezTo>
                <a:cubicBezTo>
                  <a:pt x="9534" y="16305"/>
                  <a:pt x="9666" y="16317"/>
                  <a:pt x="9798" y="16321"/>
                </a:cubicBezTo>
                <a:cubicBezTo>
                  <a:pt x="10013" y="16327"/>
                  <a:pt x="10232" y="16351"/>
                  <a:pt x="10443" y="16346"/>
                </a:cubicBezTo>
                <a:cubicBezTo>
                  <a:pt x="10647" y="16342"/>
                  <a:pt x="10859" y="16303"/>
                  <a:pt x="11063" y="16297"/>
                </a:cubicBezTo>
                <a:cubicBezTo>
                  <a:pt x="11341" y="16289"/>
                  <a:pt x="11606" y="16275"/>
                  <a:pt x="11881" y="16247"/>
                </a:cubicBezTo>
                <a:cubicBezTo>
                  <a:pt x="12039" y="16231"/>
                  <a:pt x="12195" y="16232"/>
                  <a:pt x="12353" y="16222"/>
                </a:cubicBezTo>
                <a:cubicBezTo>
                  <a:pt x="12536" y="16210"/>
                  <a:pt x="12714" y="16199"/>
                  <a:pt x="12898" y="16197"/>
                </a:cubicBezTo>
                <a:cubicBezTo>
                  <a:pt x="13443" y="16191"/>
                  <a:pt x="13996" y="16245"/>
                  <a:pt x="14536" y="16222"/>
                </a:cubicBezTo>
                <a:cubicBezTo>
                  <a:pt x="14799" y="16211"/>
                  <a:pt x="15063" y="16197"/>
                  <a:pt x="15329" y="16197"/>
                </a:cubicBezTo>
                <a:cubicBezTo>
                  <a:pt x="16068" y="16197"/>
                  <a:pt x="16805" y="16210"/>
                  <a:pt x="17537" y="16148"/>
                </a:cubicBezTo>
                <a:cubicBezTo>
                  <a:pt x="17735" y="16131"/>
                  <a:pt x="17934" y="16115"/>
                  <a:pt x="18132" y="16098"/>
                </a:cubicBezTo>
                <a:cubicBezTo>
                  <a:pt x="18371" y="16078"/>
                  <a:pt x="18614" y="16038"/>
                  <a:pt x="18852" y="16024"/>
                </a:cubicBezTo>
                <a:cubicBezTo>
                  <a:pt x="18968" y="16017"/>
                  <a:pt x="19089" y="16008"/>
                  <a:pt x="19199" y="15999"/>
                </a:cubicBezTo>
                <a:cubicBezTo>
                  <a:pt x="19224" y="15999"/>
                  <a:pt x="19232" y="15999"/>
                  <a:pt x="19248" y="159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99172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 </a:t>
            </a:r>
            <a:br>
              <a:rPr sz="2000"/>
            </a:br>
            <a:r>
              <a:rPr b="1" i="1" lang="en-US" sz="2000" spc="-1" strike="noStrike">
                <a:solidFill>
                  <a:srgbClr val="1f1cff"/>
                </a:solidFill>
                <a:latin typeface="Times New Roman"/>
              </a:rPr>
              <a:t>You roll a number cube. Find and describe the probability of the ev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79012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you roll an eve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you roll a number less tha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you roll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you roll a number greater tha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88000" y="1652760"/>
            <a:ext cx="1305000" cy="4125600"/>
          </a:xfrm>
          <a:custGeom>
            <a:avLst/>
            <a:gdLst/>
            <a:ahLst/>
            <a:rect l="l" t="t" r="r" b="b"/>
            <a:pathLst>
              <a:path w="3622" h="11461">
                <a:moveTo>
                  <a:pt x="15825" y="4589"/>
                </a:moveTo>
                <a:lnTo>
                  <a:pt x="15825" y="4589"/>
                </a:lnTo>
              </a:path>
              <a:path w="3622" h="11461">
                <a:moveTo>
                  <a:pt x="15801" y="5209"/>
                </a:moveTo>
                <a:cubicBezTo>
                  <a:pt x="15801" y="5192"/>
                  <a:pt x="15801" y="5176"/>
                  <a:pt x="15801" y="5159"/>
                </a:cubicBezTo>
              </a:path>
              <a:path w="3622" h="11461">
                <a:moveTo>
                  <a:pt x="15801" y="5159"/>
                </a:moveTo>
                <a:lnTo>
                  <a:pt x="15801" y="5159"/>
                </a:lnTo>
              </a:path>
              <a:path w="3622" h="11461">
                <a:moveTo>
                  <a:pt x="19075" y="15925"/>
                </a:moveTo>
                <a:cubicBezTo>
                  <a:pt x="19199" y="15867"/>
                  <a:pt x="19283" y="15857"/>
                  <a:pt x="19422" y="15850"/>
                </a:cubicBezTo>
              </a:path>
              <a:path w="3622" h="11461">
                <a:moveTo>
                  <a:pt x="19149" y="16049"/>
                </a:moveTo>
                <a:cubicBezTo>
                  <a:pt x="19199" y="16041"/>
                  <a:pt x="19248" y="16032"/>
                  <a:pt x="19298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49920" y="229536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5974" y="6375"/>
                </a:moveTo>
                <a:cubicBezTo>
                  <a:pt x="15974" y="6391"/>
                  <a:pt x="15974" y="6408"/>
                  <a:pt x="15974" y="6424"/>
                </a:cubicBezTo>
              </a:path>
              <a:path w="26" h="472">
                <a:moveTo>
                  <a:pt x="15999" y="6846"/>
                </a:moveTo>
                <a:lnTo>
                  <a:pt x="15999" y="6846"/>
                </a:lnTo>
                <a:lnTo>
                  <a:pt x="15999" y="6846"/>
                </a:lnTo>
              </a:path>
              <a:path w="26" h="472">
                <a:moveTo>
                  <a:pt x="15999" y="6846"/>
                </a:moveTo>
                <a:lnTo>
                  <a:pt x="15999" y="684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49920" y="2938320"/>
            <a:ext cx="484200" cy="749520"/>
          </a:xfrm>
          <a:custGeom>
            <a:avLst/>
            <a:gdLst/>
            <a:ahLst/>
            <a:rect l="l" t="t" r="r" b="b"/>
            <a:pathLst>
              <a:path w="1341" h="2084">
                <a:moveTo>
                  <a:pt x="16545" y="8310"/>
                </a:moveTo>
                <a:cubicBezTo>
                  <a:pt x="16569" y="8238"/>
                  <a:pt x="16790" y="8168"/>
                  <a:pt x="16867" y="8161"/>
                </a:cubicBezTo>
                <a:cubicBezTo>
                  <a:pt x="16900" y="8169"/>
                  <a:pt x="16933" y="8178"/>
                  <a:pt x="16966" y="8186"/>
                </a:cubicBezTo>
                <a:cubicBezTo>
                  <a:pt x="16844" y="8347"/>
                  <a:pt x="16744" y="8428"/>
                  <a:pt x="16570" y="8533"/>
                </a:cubicBezTo>
                <a:cubicBezTo>
                  <a:pt x="16532" y="8571"/>
                  <a:pt x="16687" y="8509"/>
                  <a:pt x="16768" y="8558"/>
                </a:cubicBezTo>
                <a:cubicBezTo>
                  <a:pt x="16801" y="8591"/>
                  <a:pt x="16834" y="8624"/>
                  <a:pt x="16867" y="8657"/>
                </a:cubicBezTo>
                <a:cubicBezTo>
                  <a:pt x="16708" y="8865"/>
                  <a:pt x="16590" y="8834"/>
                  <a:pt x="16321" y="8806"/>
                </a:cubicBezTo>
                <a:cubicBezTo>
                  <a:pt x="16272" y="8806"/>
                  <a:pt x="16289" y="8806"/>
                  <a:pt x="16396" y="8806"/>
                </a:cubicBezTo>
              </a:path>
              <a:path w="1341" h="2084">
                <a:moveTo>
                  <a:pt x="15974" y="9178"/>
                </a:moveTo>
                <a:cubicBezTo>
                  <a:pt x="16413" y="9170"/>
                  <a:pt x="16880" y="9104"/>
                  <a:pt x="17314" y="9203"/>
                </a:cubicBezTo>
                <a:cubicBezTo>
                  <a:pt x="17314" y="9211"/>
                  <a:pt x="17314" y="9219"/>
                  <a:pt x="17314" y="9227"/>
                </a:cubicBezTo>
              </a:path>
              <a:path w="1341" h="2084">
                <a:moveTo>
                  <a:pt x="16421" y="9550"/>
                </a:moveTo>
                <a:cubicBezTo>
                  <a:pt x="16307" y="9765"/>
                  <a:pt x="16147" y="9956"/>
                  <a:pt x="16024" y="10170"/>
                </a:cubicBezTo>
                <a:cubicBezTo>
                  <a:pt x="16227" y="10277"/>
                  <a:pt x="16497" y="10262"/>
                  <a:pt x="16619" y="9996"/>
                </a:cubicBezTo>
                <a:cubicBezTo>
                  <a:pt x="16611" y="9971"/>
                  <a:pt x="16602" y="9947"/>
                  <a:pt x="16594" y="9922"/>
                </a:cubicBezTo>
                <a:cubicBezTo>
                  <a:pt x="16533" y="9945"/>
                  <a:pt x="16305" y="10176"/>
                  <a:pt x="16346" y="10170"/>
                </a:cubicBezTo>
                <a:cubicBezTo>
                  <a:pt x="16379" y="10153"/>
                  <a:pt x="16413" y="10137"/>
                  <a:pt x="16446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5960" y="3036960"/>
            <a:ext cx="4054320" cy="1490760"/>
          </a:xfrm>
          <a:custGeom>
            <a:avLst/>
            <a:gdLst/>
            <a:ahLst/>
            <a:rect l="l" t="t" r="r" b="b"/>
            <a:pathLst>
              <a:path w="11263" h="4143">
                <a:moveTo>
                  <a:pt x="17711" y="9178"/>
                </a:moveTo>
                <a:cubicBezTo>
                  <a:pt x="17814" y="9164"/>
                  <a:pt x="17882" y="9153"/>
                  <a:pt x="17983" y="9153"/>
                </a:cubicBezTo>
              </a:path>
              <a:path w="11263" h="4143">
                <a:moveTo>
                  <a:pt x="17512" y="9500"/>
                </a:moveTo>
                <a:cubicBezTo>
                  <a:pt x="17620" y="9500"/>
                  <a:pt x="17727" y="9500"/>
                  <a:pt x="17835" y="9500"/>
                </a:cubicBezTo>
              </a:path>
              <a:path w="11263" h="4143">
                <a:moveTo>
                  <a:pt x="19224" y="8434"/>
                </a:moveTo>
                <a:cubicBezTo>
                  <a:pt x="19152" y="8705"/>
                  <a:pt x="19080" y="8955"/>
                  <a:pt x="18951" y="9203"/>
                </a:cubicBezTo>
              </a:path>
              <a:path w="11263" h="4143">
                <a:moveTo>
                  <a:pt x="18529" y="9351"/>
                </a:moveTo>
                <a:cubicBezTo>
                  <a:pt x="18845" y="9312"/>
                  <a:pt x="19154" y="9250"/>
                  <a:pt x="19472" y="9227"/>
                </a:cubicBezTo>
              </a:path>
              <a:path w="11263" h="4143">
                <a:moveTo>
                  <a:pt x="8210" y="12576"/>
                </a:moveTo>
                <a:cubicBezTo>
                  <a:pt x="8627" y="12569"/>
                  <a:pt x="9037" y="12556"/>
                  <a:pt x="9451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15080" y="3510000"/>
            <a:ext cx="277920" cy="214200"/>
          </a:xfrm>
          <a:custGeom>
            <a:avLst/>
            <a:gdLst/>
            <a:ahLst/>
            <a:rect l="l" t="t" r="r" b="b"/>
            <a:pathLst>
              <a:path w="770" h="597">
                <a:moveTo>
                  <a:pt x="18653" y="9823"/>
                </a:moveTo>
                <a:cubicBezTo>
                  <a:pt x="18810" y="9779"/>
                  <a:pt x="18937" y="9755"/>
                  <a:pt x="19100" y="9748"/>
                </a:cubicBezTo>
                <a:cubicBezTo>
                  <a:pt x="19234" y="9952"/>
                  <a:pt x="18948" y="10076"/>
                  <a:pt x="18802" y="10195"/>
                </a:cubicBezTo>
                <a:cubicBezTo>
                  <a:pt x="18705" y="10273"/>
                  <a:pt x="18679" y="10275"/>
                  <a:pt x="18653" y="10344"/>
                </a:cubicBezTo>
                <a:cubicBezTo>
                  <a:pt x="18910" y="10335"/>
                  <a:pt x="19166" y="10310"/>
                  <a:pt x="19422" y="10294"/>
                </a:cubicBezTo>
                <a:cubicBezTo>
                  <a:pt x="19414" y="10294"/>
                  <a:pt x="19405" y="10294"/>
                  <a:pt x="19397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36960" y="4125960"/>
            <a:ext cx="241200" cy="803160"/>
          </a:xfrm>
          <a:custGeom>
            <a:avLst/>
            <a:gdLst/>
            <a:ahLst/>
            <a:rect l="l" t="t" r="r" b="b"/>
            <a:pathLst>
              <a:path w="670" h="2233">
                <a:moveTo>
                  <a:pt x="9004" y="11460"/>
                </a:moveTo>
                <a:cubicBezTo>
                  <a:pt x="8979" y="11637"/>
                  <a:pt x="8925" y="11833"/>
                  <a:pt x="8880" y="12005"/>
                </a:cubicBezTo>
                <a:cubicBezTo>
                  <a:pt x="8836" y="12171"/>
                  <a:pt x="8799" y="12266"/>
                  <a:pt x="8781" y="12427"/>
                </a:cubicBezTo>
              </a:path>
              <a:path w="670" h="2233">
                <a:moveTo>
                  <a:pt x="8706" y="12923"/>
                </a:moveTo>
                <a:cubicBezTo>
                  <a:pt x="8570" y="13015"/>
                  <a:pt x="8466" y="13276"/>
                  <a:pt x="8434" y="13444"/>
                </a:cubicBezTo>
                <a:cubicBezTo>
                  <a:pt x="8434" y="13502"/>
                  <a:pt x="8434" y="13560"/>
                  <a:pt x="8434" y="13618"/>
                </a:cubicBezTo>
                <a:cubicBezTo>
                  <a:pt x="8677" y="13706"/>
                  <a:pt x="8937" y="13648"/>
                  <a:pt x="9103" y="13395"/>
                </a:cubicBezTo>
                <a:cubicBezTo>
                  <a:pt x="9103" y="13362"/>
                  <a:pt x="9103" y="13328"/>
                  <a:pt x="9103" y="13295"/>
                </a:cubicBezTo>
                <a:cubicBezTo>
                  <a:pt x="8845" y="13342"/>
                  <a:pt x="8747" y="13401"/>
                  <a:pt x="8706" y="13667"/>
                </a:cubicBezTo>
                <a:cubicBezTo>
                  <a:pt x="8691" y="13761"/>
                  <a:pt x="8824" y="13595"/>
                  <a:pt x="8880" y="135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16840" y="5473800"/>
            <a:ext cx="277560" cy="598320"/>
          </a:xfrm>
          <a:custGeom>
            <a:avLst/>
            <a:gdLst/>
            <a:ahLst/>
            <a:rect l="l" t="t" r="r" b="b"/>
            <a:pathLst>
              <a:path w="770" h="1663">
                <a:moveTo>
                  <a:pt x="20365" y="15205"/>
                </a:moveTo>
                <a:cubicBezTo>
                  <a:pt x="20322" y="15437"/>
                  <a:pt x="20251" y="15667"/>
                  <a:pt x="20216" y="15900"/>
                </a:cubicBezTo>
                <a:cubicBezTo>
                  <a:pt x="20216" y="15916"/>
                  <a:pt x="20216" y="15933"/>
                  <a:pt x="20216" y="15949"/>
                </a:cubicBezTo>
              </a:path>
              <a:path w="770" h="1663">
                <a:moveTo>
                  <a:pt x="19844" y="16049"/>
                </a:moveTo>
                <a:cubicBezTo>
                  <a:pt x="20004" y="16030"/>
                  <a:pt x="20393" y="15908"/>
                  <a:pt x="20538" y="15974"/>
                </a:cubicBezTo>
                <a:cubicBezTo>
                  <a:pt x="20530" y="15982"/>
                  <a:pt x="20521" y="15991"/>
                  <a:pt x="20513" y="15999"/>
                </a:cubicBezTo>
              </a:path>
              <a:path w="770" h="1663">
                <a:moveTo>
                  <a:pt x="19893" y="16346"/>
                </a:moveTo>
                <a:cubicBezTo>
                  <a:pt x="20035" y="16318"/>
                  <a:pt x="20179" y="16299"/>
                  <a:pt x="20315" y="16371"/>
                </a:cubicBezTo>
                <a:cubicBezTo>
                  <a:pt x="20323" y="16379"/>
                  <a:pt x="20332" y="16388"/>
                  <a:pt x="20340" y="16396"/>
                </a:cubicBezTo>
                <a:cubicBezTo>
                  <a:pt x="20197" y="16597"/>
                  <a:pt x="20016" y="16672"/>
                  <a:pt x="19819" y="16818"/>
                </a:cubicBezTo>
                <a:cubicBezTo>
                  <a:pt x="19802" y="16834"/>
                  <a:pt x="19786" y="16851"/>
                  <a:pt x="19769" y="16867"/>
                </a:cubicBezTo>
                <a:cubicBezTo>
                  <a:pt x="19978" y="16854"/>
                  <a:pt x="20162" y="16790"/>
                  <a:pt x="20365" y="167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61040" y="5367240"/>
            <a:ext cx="519120" cy="669960"/>
          </a:xfrm>
          <a:custGeom>
            <a:avLst/>
            <a:gdLst/>
            <a:ahLst/>
            <a:rect l="l" t="t" r="r" b="b"/>
            <a:pathLst>
              <a:path w="1440" h="1861">
                <a:moveTo>
                  <a:pt x="17140" y="15801"/>
                </a:moveTo>
                <a:cubicBezTo>
                  <a:pt x="17088" y="15723"/>
                  <a:pt x="17405" y="15800"/>
                  <a:pt x="17413" y="15801"/>
                </a:cubicBezTo>
                <a:cubicBezTo>
                  <a:pt x="17721" y="15835"/>
                  <a:pt x="18022" y="15882"/>
                  <a:pt x="18331" y="15900"/>
                </a:cubicBezTo>
                <a:cubicBezTo>
                  <a:pt x="18382" y="15903"/>
                  <a:pt x="18538" y="15877"/>
                  <a:pt x="18554" y="15925"/>
                </a:cubicBezTo>
              </a:path>
              <a:path w="1440" h="1861">
                <a:moveTo>
                  <a:pt x="17587" y="16049"/>
                </a:moveTo>
                <a:cubicBezTo>
                  <a:pt x="17673" y="16049"/>
                  <a:pt x="17624" y="16087"/>
                  <a:pt x="17611" y="16148"/>
                </a:cubicBezTo>
                <a:cubicBezTo>
                  <a:pt x="17579" y="16304"/>
                  <a:pt x="17456" y="16482"/>
                  <a:pt x="17462" y="16644"/>
                </a:cubicBezTo>
                <a:cubicBezTo>
                  <a:pt x="17467" y="16767"/>
                  <a:pt x="17732" y="16773"/>
                  <a:pt x="17810" y="16768"/>
                </a:cubicBezTo>
                <a:cubicBezTo>
                  <a:pt x="17941" y="16759"/>
                  <a:pt x="18051" y="16705"/>
                  <a:pt x="18107" y="16594"/>
                </a:cubicBezTo>
                <a:cubicBezTo>
                  <a:pt x="18115" y="16578"/>
                  <a:pt x="18124" y="16561"/>
                  <a:pt x="18132" y="16545"/>
                </a:cubicBezTo>
                <a:cubicBezTo>
                  <a:pt x="18051" y="16477"/>
                  <a:pt x="17967" y="16430"/>
                  <a:pt x="17859" y="16495"/>
                </a:cubicBezTo>
                <a:cubicBezTo>
                  <a:pt x="17781" y="16542"/>
                  <a:pt x="17760" y="16612"/>
                  <a:pt x="17760" y="16694"/>
                </a:cubicBezTo>
                <a:cubicBezTo>
                  <a:pt x="17760" y="16718"/>
                  <a:pt x="17760" y="16727"/>
                  <a:pt x="17760" y="16743"/>
                </a:cubicBezTo>
              </a:path>
              <a:path w="1440" h="1861">
                <a:moveTo>
                  <a:pt x="17686" y="14932"/>
                </a:moveTo>
                <a:cubicBezTo>
                  <a:pt x="17668" y="14987"/>
                  <a:pt x="17663" y="14949"/>
                  <a:pt x="17760" y="14932"/>
                </a:cubicBezTo>
                <a:cubicBezTo>
                  <a:pt x="17898" y="14908"/>
                  <a:pt x="18002" y="14900"/>
                  <a:pt x="18132" y="14932"/>
                </a:cubicBezTo>
                <a:cubicBezTo>
                  <a:pt x="18022" y="15077"/>
                  <a:pt x="17924" y="15139"/>
                  <a:pt x="17760" y="15230"/>
                </a:cubicBezTo>
                <a:cubicBezTo>
                  <a:pt x="17633" y="15230"/>
                  <a:pt x="17897" y="15211"/>
                  <a:pt x="17934" y="15230"/>
                </a:cubicBezTo>
                <a:cubicBezTo>
                  <a:pt x="18244" y="15388"/>
                  <a:pt x="17898" y="15588"/>
                  <a:pt x="17711" y="15602"/>
                </a:cubicBezTo>
                <a:cubicBezTo>
                  <a:pt x="17693" y="15603"/>
                  <a:pt x="17428" y="15591"/>
                  <a:pt x="17512" y="15528"/>
                </a:cubicBezTo>
                <a:cubicBezTo>
                  <a:pt x="17520" y="15520"/>
                  <a:pt x="17529" y="15511"/>
                  <a:pt x="17537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7960" y="2062080"/>
            <a:ext cx="546120" cy="46080"/>
          </a:xfrm>
          <a:custGeom>
            <a:avLst/>
            <a:gdLst/>
            <a:ahLst/>
            <a:rect l="l" t="t" r="r" b="b"/>
            <a:pathLst>
              <a:path w="1514" h="125">
                <a:moveTo>
                  <a:pt x="14412" y="5854"/>
                </a:moveTo>
                <a:cubicBezTo>
                  <a:pt x="14507" y="5854"/>
                  <a:pt x="14585" y="5840"/>
                  <a:pt x="14684" y="5829"/>
                </a:cubicBezTo>
                <a:cubicBezTo>
                  <a:pt x="15031" y="5791"/>
                  <a:pt x="15378" y="5771"/>
                  <a:pt x="15726" y="5755"/>
                </a:cubicBezTo>
                <a:cubicBezTo>
                  <a:pt x="15778" y="5753"/>
                  <a:pt x="15908" y="5782"/>
                  <a:pt x="15925" y="57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2800" y="2160720"/>
            <a:ext cx="206280" cy="304560"/>
          </a:xfrm>
          <a:custGeom>
            <a:avLst/>
            <a:gdLst/>
            <a:ahLst/>
            <a:rect l="l" t="t" r="r" b="b"/>
            <a:pathLst>
              <a:path w="572" h="844">
                <a:moveTo>
                  <a:pt x="15230" y="6028"/>
                </a:moveTo>
                <a:cubicBezTo>
                  <a:pt x="15196" y="5993"/>
                  <a:pt x="15102" y="6244"/>
                  <a:pt x="15081" y="6300"/>
                </a:cubicBezTo>
                <a:cubicBezTo>
                  <a:pt x="15029" y="6443"/>
                  <a:pt x="14931" y="6623"/>
                  <a:pt x="15007" y="6772"/>
                </a:cubicBezTo>
                <a:cubicBezTo>
                  <a:pt x="15049" y="6855"/>
                  <a:pt x="15165" y="6835"/>
                  <a:pt x="15230" y="6821"/>
                </a:cubicBezTo>
                <a:cubicBezTo>
                  <a:pt x="15329" y="6799"/>
                  <a:pt x="15491" y="6758"/>
                  <a:pt x="15528" y="6648"/>
                </a:cubicBezTo>
                <a:cubicBezTo>
                  <a:pt x="15548" y="6589"/>
                  <a:pt x="15558" y="6521"/>
                  <a:pt x="15503" y="6474"/>
                </a:cubicBezTo>
                <a:cubicBezTo>
                  <a:pt x="15466" y="6442"/>
                  <a:pt x="15363" y="6428"/>
                  <a:pt x="15329" y="6474"/>
                </a:cubicBezTo>
                <a:cubicBezTo>
                  <a:pt x="15267" y="6559"/>
                  <a:pt x="15255" y="6671"/>
                  <a:pt x="15255" y="6772"/>
                </a:cubicBezTo>
                <a:cubicBezTo>
                  <a:pt x="15255" y="6813"/>
                  <a:pt x="15247" y="6829"/>
                  <a:pt x="15280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2800" y="1731960"/>
            <a:ext cx="144360" cy="3049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15156" y="4936"/>
                </a:moveTo>
                <a:cubicBezTo>
                  <a:pt x="15063" y="4905"/>
                  <a:pt x="15281" y="4818"/>
                  <a:pt x="15304" y="4812"/>
                </a:cubicBezTo>
                <a:cubicBezTo>
                  <a:pt x="15329" y="4812"/>
                  <a:pt x="15354" y="4812"/>
                  <a:pt x="15379" y="4812"/>
                </a:cubicBezTo>
                <a:cubicBezTo>
                  <a:pt x="15362" y="4993"/>
                  <a:pt x="15311" y="5022"/>
                  <a:pt x="15180" y="5135"/>
                </a:cubicBezTo>
                <a:cubicBezTo>
                  <a:pt x="15164" y="5151"/>
                  <a:pt x="15147" y="5168"/>
                  <a:pt x="15131" y="5184"/>
                </a:cubicBezTo>
                <a:cubicBezTo>
                  <a:pt x="15212" y="5123"/>
                  <a:pt x="15321" y="5185"/>
                  <a:pt x="15354" y="5283"/>
                </a:cubicBezTo>
                <a:cubicBezTo>
                  <a:pt x="15417" y="5467"/>
                  <a:pt x="15198" y="5648"/>
                  <a:pt x="15032" y="5655"/>
                </a:cubicBezTo>
                <a:cubicBezTo>
                  <a:pt x="14949" y="5658"/>
                  <a:pt x="14982" y="5557"/>
                  <a:pt x="14982" y="5507"/>
                </a:cubicBezTo>
                <a:cubicBezTo>
                  <a:pt x="14982" y="5499"/>
                  <a:pt x="14982" y="5490"/>
                  <a:pt x="14982" y="54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19840" y="2071800"/>
            <a:ext cx="125280" cy="27000"/>
          </a:xfrm>
          <a:custGeom>
            <a:avLst/>
            <a:gdLst/>
            <a:ahLst/>
            <a:rect l="l" t="t" r="r" b="b"/>
            <a:pathLst>
              <a:path w="348" h="75">
                <a:moveTo>
                  <a:pt x="16470" y="5829"/>
                </a:moveTo>
                <a:cubicBezTo>
                  <a:pt x="16446" y="5829"/>
                  <a:pt x="16438" y="5829"/>
                  <a:pt x="16446" y="5804"/>
                </a:cubicBezTo>
                <a:cubicBezTo>
                  <a:pt x="16547" y="5804"/>
                  <a:pt x="16644" y="5811"/>
                  <a:pt x="16743" y="5779"/>
                </a:cubicBezTo>
                <a:cubicBezTo>
                  <a:pt x="16766" y="5757"/>
                  <a:pt x="16771" y="5749"/>
                  <a:pt x="16793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8920" y="2160720"/>
            <a:ext cx="115920" cy="27000"/>
          </a:xfrm>
          <a:custGeom>
            <a:avLst/>
            <a:gdLst/>
            <a:ahLst/>
            <a:rect l="l" t="t" r="r" b="b"/>
            <a:pathLst>
              <a:path w="324" h="75">
                <a:moveTo>
                  <a:pt x="16495" y="6077"/>
                </a:moveTo>
                <a:cubicBezTo>
                  <a:pt x="16571" y="6058"/>
                  <a:pt x="16656" y="6016"/>
                  <a:pt x="16743" y="6003"/>
                </a:cubicBezTo>
                <a:cubicBezTo>
                  <a:pt x="16785" y="6003"/>
                  <a:pt x="16793" y="6003"/>
                  <a:pt x="16818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43720" y="1785960"/>
            <a:ext cx="53640" cy="19080"/>
          </a:xfrm>
          <a:custGeom>
            <a:avLst/>
            <a:gdLst/>
            <a:ahLst/>
            <a:rect l="l" t="t" r="r" b="b"/>
            <a:pathLst>
              <a:path w="149" h="51">
                <a:moveTo>
                  <a:pt x="15677" y="5011"/>
                </a:moveTo>
                <a:cubicBezTo>
                  <a:pt x="15713" y="4983"/>
                  <a:pt x="15753" y="4966"/>
                  <a:pt x="15801" y="4961"/>
                </a:cubicBezTo>
                <a:cubicBezTo>
                  <a:pt x="15809" y="4961"/>
                  <a:pt x="15817" y="4961"/>
                  <a:pt x="15825" y="49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13280" y="1643040"/>
            <a:ext cx="8100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6222" y="4614"/>
                </a:moveTo>
                <a:cubicBezTo>
                  <a:pt x="16279" y="4576"/>
                  <a:pt x="16282" y="4560"/>
                  <a:pt x="16321" y="4564"/>
                </a:cubicBezTo>
                <a:cubicBezTo>
                  <a:pt x="16330" y="4703"/>
                  <a:pt x="16330" y="4725"/>
                  <a:pt x="16222" y="4812"/>
                </a:cubicBezTo>
                <a:cubicBezTo>
                  <a:pt x="16315" y="4833"/>
                  <a:pt x="16460" y="4935"/>
                  <a:pt x="16321" y="5035"/>
                </a:cubicBezTo>
                <a:cubicBezTo>
                  <a:pt x="16231" y="5058"/>
                  <a:pt x="16207" y="5066"/>
                  <a:pt x="16148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88000" y="2384280"/>
            <a:ext cx="108000" cy="972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5801" y="6648"/>
                </a:moveTo>
                <a:cubicBezTo>
                  <a:pt x="15903" y="6641"/>
                  <a:pt x="15995" y="6623"/>
                  <a:pt x="16098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340000"/>
            <a:ext cx="115920" cy="16992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16297" y="6573"/>
                </a:moveTo>
                <a:cubicBezTo>
                  <a:pt x="16385" y="6517"/>
                  <a:pt x="16417" y="6505"/>
                  <a:pt x="16520" y="6524"/>
                </a:cubicBezTo>
                <a:cubicBezTo>
                  <a:pt x="16507" y="6584"/>
                  <a:pt x="16437" y="6676"/>
                  <a:pt x="16470" y="6697"/>
                </a:cubicBezTo>
                <a:cubicBezTo>
                  <a:pt x="16612" y="6787"/>
                  <a:pt x="16692" y="6902"/>
                  <a:pt x="16470" y="6970"/>
                </a:cubicBezTo>
                <a:cubicBezTo>
                  <a:pt x="16412" y="6970"/>
                  <a:pt x="16404" y="6970"/>
                  <a:pt x="16371" y="69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46880" y="1731960"/>
            <a:ext cx="36360" cy="23328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7909" y="4837"/>
                </a:moveTo>
                <a:cubicBezTo>
                  <a:pt x="17909" y="4802"/>
                  <a:pt x="17980" y="5207"/>
                  <a:pt x="17983" y="5234"/>
                </a:cubicBezTo>
                <a:cubicBezTo>
                  <a:pt x="17995" y="5343"/>
                  <a:pt x="17990" y="5370"/>
                  <a:pt x="18008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40320" y="2009880"/>
            <a:ext cx="26856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7611" y="5631"/>
                </a:moveTo>
                <a:cubicBezTo>
                  <a:pt x="17841" y="5602"/>
                  <a:pt x="18074" y="5589"/>
                  <a:pt x="18306" y="5581"/>
                </a:cubicBezTo>
                <a:cubicBezTo>
                  <a:pt x="18331" y="5581"/>
                  <a:pt x="18339" y="5581"/>
                  <a:pt x="18355" y="55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2240" y="2133720"/>
            <a:ext cx="162000" cy="24120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7934" y="6077"/>
                </a:moveTo>
                <a:cubicBezTo>
                  <a:pt x="17918" y="6030"/>
                  <a:pt x="17878" y="6047"/>
                  <a:pt x="17959" y="6003"/>
                </a:cubicBezTo>
                <a:cubicBezTo>
                  <a:pt x="18048" y="5958"/>
                  <a:pt x="18071" y="5945"/>
                  <a:pt x="18132" y="5928"/>
                </a:cubicBezTo>
                <a:cubicBezTo>
                  <a:pt x="18169" y="6133"/>
                  <a:pt x="18057" y="6262"/>
                  <a:pt x="17934" y="6424"/>
                </a:cubicBezTo>
                <a:cubicBezTo>
                  <a:pt x="17853" y="6525"/>
                  <a:pt x="17841" y="6546"/>
                  <a:pt x="17785" y="6598"/>
                </a:cubicBezTo>
                <a:cubicBezTo>
                  <a:pt x="17900" y="6575"/>
                  <a:pt x="18011" y="6516"/>
                  <a:pt x="18132" y="6499"/>
                </a:cubicBezTo>
                <a:cubicBezTo>
                  <a:pt x="18190" y="6499"/>
                  <a:pt x="18198" y="6499"/>
                  <a:pt x="18231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your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63748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your results as a fraction you can express them as a decimal or as a percent. Lets practi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he probability of an event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is to a decimal and then to a perc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4120" y="3200400"/>
                <a:ext cx="5364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2608200" y="4919760"/>
            <a:ext cx="1285920" cy="625320"/>
          </a:xfrm>
          <a:custGeom>
            <a:avLst/>
            <a:gdLst/>
            <a:ahLst/>
            <a:rect l="l" t="t" r="r" b="b"/>
            <a:pathLst>
              <a:path w="3573" h="1738">
                <a:moveTo>
                  <a:pt x="7417" y="13891"/>
                </a:moveTo>
                <a:cubicBezTo>
                  <a:pt x="7425" y="13875"/>
                  <a:pt x="7465" y="13839"/>
                  <a:pt x="7565" y="13816"/>
                </a:cubicBezTo>
                <a:cubicBezTo>
                  <a:pt x="7804" y="13760"/>
                  <a:pt x="8043" y="13762"/>
                  <a:pt x="8285" y="13742"/>
                </a:cubicBezTo>
                <a:cubicBezTo>
                  <a:pt x="8525" y="13722"/>
                  <a:pt x="8765" y="13736"/>
                  <a:pt x="9004" y="13717"/>
                </a:cubicBezTo>
                <a:cubicBezTo>
                  <a:pt x="9284" y="13695"/>
                  <a:pt x="9566" y="13672"/>
                  <a:pt x="9847" y="13667"/>
                </a:cubicBezTo>
                <a:cubicBezTo>
                  <a:pt x="10169" y="13661"/>
                  <a:pt x="10492" y="13667"/>
                  <a:pt x="10815" y="13667"/>
                </a:cubicBezTo>
              </a:path>
              <a:path w="3573" h="1738">
                <a:moveTo>
                  <a:pt x="7367" y="14709"/>
                </a:moveTo>
                <a:cubicBezTo>
                  <a:pt x="7358" y="14663"/>
                  <a:pt x="7457" y="14530"/>
                  <a:pt x="7541" y="14585"/>
                </a:cubicBezTo>
                <a:cubicBezTo>
                  <a:pt x="7719" y="14702"/>
                  <a:pt x="7500" y="14889"/>
                  <a:pt x="7441" y="14982"/>
                </a:cubicBezTo>
                <a:cubicBezTo>
                  <a:pt x="7403" y="15042"/>
                  <a:pt x="7439" y="14920"/>
                  <a:pt x="7516" y="14957"/>
                </a:cubicBezTo>
                <a:cubicBezTo>
                  <a:pt x="7691" y="15042"/>
                  <a:pt x="7612" y="15271"/>
                  <a:pt x="7491" y="15354"/>
                </a:cubicBezTo>
                <a:cubicBezTo>
                  <a:pt x="7387" y="15425"/>
                  <a:pt x="7274" y="15427"/>
                  <a:pt x="7243" y="15304"/>
                </a:cubicBezTo>
                <a:cubicBezTo>
                  <a:pt x="7243" y="15296"/>
                  <a:pt x="7243" y="15288"/>
                  <a:pt x="7243" y="15280"/>
                </a:cubicBezTo>
              </a:path>
              <a:path w="3573" h="1738">
                <a:moveTo>
                  <a:pt x="8235" y="14536"/>
                </a:moveTo>
                <a:cubicBezTo>
                  <a:pt x="8103" y="14536"/>
                  <a:pt x="7970" y="14536"/>
                  <a:pt x="7838" y="14536"/>
                </a:cubicBezTo>
                <a:cubicBezTo>
                  <a:pt x="7822" y="14644"/>
                  <a:pt x="7797" y="14748"/>
                  <a:pt x="7789" y="14858"/>
                </a:cubicBezTo>
                <a:cubicBezTo>
                  <a:pt x="7862" y="14839"/>
                  <a:pt x="7920" y="14744"/>
                  <a:pt x="8012" y="14759"/>
                </a:cubicBezTo>
                <a:cubicBezTo>
                  <a:pt x="8152" y="14782"/>
                  <a:pt x="8219" y="15027"/>
                  <a:pt x="8136" y="15131"/>
                </a:cubicBezTo>
                <a:cubicBezTo>
                  <a:pt x="8075" y="15208"/>
                  <a:pt x="7842" y="15242"/>
                  <a:pt x="7764" y="15180"/>
                </a:cubicBezTo>
                <a:cubicBezTo>
                  <a:pt x="7764" y="15156"/>
                  <a:pt x="7764" y="15148"/>
                  <a:pt x="7739" y="15156"/>
                </a:cubicBezTo>
              </a:path>
              <a:path w="3573" h="1738">
                <a:moveTo>
                  <a:pt x="9153" y="15304"/>
                </a:moveTo>
                <a:cubicBezTo>
                  <a:pt x="9248" y="15304"/>
                  <a:pt x="9332" y="15296"/>
                  <a:pt x="9426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5080" y="5554800"/>
            <a:ext cx="3716280" cy="98280"/>
          </a:xfrm>
          <a:custGeom>
            <a:avLst/>
            <a:gdLst/>
            <a:ahLst/>
            <a:rect l="l" t="t" r="r" b="b"/>
            <a:pathLst>
              <a:path w="10320" h="273">
                <a:moveTo>
                  <a:pt x="5655" y="15652"/>
                </a:moveTo>
                <a:cubicBezTo>
                  <a:pt x="5695" y="15618"/>
                  <a:pt x="5765" y="15547"/>
                  <a:pt x="5804" y="15528"/>
                </a:cubicBezTo>
              </a:path>
              <a:path w="10320" h="273">
                <a:moveTo>
                  <a:pt x="9079" y="15577"/>
                </a:moveTo>
                <a:cubicBezTo>
                  <a:pt x="9185" y="15549"/>
                  <a:pt x="9294" y="15521"/>
                  <a:pt x="9401" y="15503"/>
                </a:cubicBezTo>
              </a:path>
              <a:path w="10320" h="273">
                <a:moveTo>
                  <a:pt x="12700" y="15478"/>
                </a:moveTo>
                <a:cubicBezTo>
                  <a:pt x="12821" y="15430"/>
                  <a:pt x="12859" y="15414"/>
                  <a:pt x="12948" y="15429"/>
                </a:cubicBezTo>
              </a:path>
              <a:path w="10320" h="273">
                <a:moveTo>
                  <a:pt x="12948" y="15429"/>
                </a:moveTo>
                <a:lnTo>
                  <a:pt x="12948" y="15429"/>
                </a:lnTo>
              </a:path>
              <a:path w="10320" h="273">
                <a:moveTo>
                  <a:pt x="15801" y="15627"/>
                </a:moveTo>
                <a:cubicBezTo>
                  <a:pt x="15823" y="15706"/>
                  <a:pt x="15963" y="15750"/>
                  <a:pt x="15974" y="15627"/>
                </a:cubicBezTo>
                <a:cubicBezTo>
                  <a:pt x="15943" y="15535"/>
                  <a:pt x="15918" y="15504"/>
                  <a:pt x="15825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55800" y="5180040"/>
            <a:ext cx="2197080" cy="874800"/>
          </a:xfrm>
          <a:custGeom>
            <a:avLst/>
            <a:gdLst/>
            <a:ahLst/>
            <a:rect l="l" t="t" r="r" b="b"/>
            <a:pathLst>
              <a:path w="6103" h="2432">
                <a:moveTo>
                  <a:pt x="2977" y="14610"/>
                </a:moveTo>
                <a:cubicBezTo>
                  <a:pt x="3049" y="14513"/>
                  <a:pt x="3108" y="14466"/>
                  <a:pt x="3225" y="14436"/>
                </a:cubicBezTo>
                <a:cubicBezTo>
                  <a:pt x="3356" y="14402"/>
                  <a:pt x="3534" y="14398"/>
                  <a:pt x="3671" y="14387"/>
                </a:cubicBezTo>
                <a:cubicBezTo>
                  <a:pt x="3657" y="14568"/>
                  <a:pt x="3626" y="14730"/>
                  <a:pt x="3572" y="14908"/>
                </a:cubicBezTo>
                <a:cubicBezTo>
                  <a:pt x="3521" y="15075"/>
                  <a:pt x="3473" y="15241"/>
                  <a:pt x="3423" y="15404"/>
                </a:cubicBezTo>
              </a:path>
              <a:path w="6103" h="2432">
                <a:moveTo>
                  <a:pt x="2729" y="15726"/>
                </a:moveTo>
                <a:cubicBezTo>
                  <a:pt x="3177" y="15643"/>
                  <a:pt x="3623" y="15550"/>
                  <a:pt x="4068" y="15453"/>
                </a:cubicBezTo>
                <a:cubicBezTo>
                  <a:pt x="4142" y="15435"/>
                  <a:pt x="4149" y="15427"/>
                  <a:pt x="4192" y="15429"/>
                </a:cubicBezTo>
              </a:path>
              <a:path w="6103" h="2432">
                <a:moveTo>
                  <a:pt x="2877" y="16148"/>
                </a:moveTo>
                <a:cubicBezTo>
                  <a:pt x="3020" y="15950"/>
                  <a:pt x="3184" y="16027"/>
                  <a:pt x="3398" y="16098"/>
                </a:cubicBezTo>
                <a:cubicBezTo>
                  <a:pt x="3411" y="16483"/>
                  <a:pt x="3209" y="16698"/>
                  <a:pt x="2803" y="16818"/>
                </a:cubicBezTo>
                <a:cubicBezTo>
                  <a:pt x="2753" y="16818"/>
                  <a:pt x="2704" y="16818"/>
                  <a:pt x="2654" y="16818"/>
                </a:cubicBezTo>
                <a:cubicBezTo>
                  <a:pt x="2713" y="16571"/>
                  <a:pt x="2835" y="16438"/>
                  <a:pt x="3125" y="16470"/>
                </a:cubicBezTo>
                <a:cubicBezTo>
                  <a:pt x="3285" y="16488"/>
                  <a:pt x="3393" y="16566"/>
                  <a:pt x="3473" y="16694"/>
                </a:cubicBezTo>
              </a:path>
              <a:path w="6103" h="2432">
                <a:moveTo>
                  <a:pt x="4787" y="15131"/>
                </a:moveTo>
                <a:cubicBezTo>
                  <a:pt x="4811" y="15283"/>
                  <a:pt x="4880" y="15418"/>
                  <a:pt x="4961" y="15553"/>
                </a:cubicBezTo>
                <a:cubicBezTo>
                  <a:pt x="4978" y="15578"/>
                  <a:pt x="4994" y="15602"/>
                  <a:pt x="5011" y="15627"/>
                </a:cubicBezTo>
              </a:path>
              <a:path w="6103" h="2432">
                <a:moveTo>
                  <a:pt x="4862" y="15304"/>
                </a:moveTo>
                <a:cubicBezTo>
                  <a:pt x="4844" y="15331"/>
                  <a:pt x="4605" y="15727"/>
                  <a:pt x="4688" y="15602"/>
                </a:cubicBezTo>
              </a:path>
              <a:path w="6103" h="2432">
                <a:moveTo>
                  <a:pt x="5581" y="15602"/>
                </a:moveTo>
                <a:cubicBezTo>
                  <a:pt x="5575" y="15662"/>
                  <a:pt x="5567" y="15696"/>
                  <a:pt x="5556" y="15751"/>
                </a:cubicBezTo>
                <a:cubicBezTo>
                  <a:pt x="5650" y="15770"/>
                  <a:pt x="5820" y="15803"/>
                  <a:pt x="5829" y="15925"/>
                </a:cubicBezTo>
                <a:cubicBezTo>
                  <a:pt x="5843" y="16113"/>
                  <a:pt x="5659" y="16049"/>
                  <a:pt x="5631" y="15900"/>
                </a:cubicBezTo>
              </a:path>
              <a:path w="6103" h="2432">
                <a:moveTo>
                  <a:pt x="5507" y="15404"/>
                </a:moveTo>
                <a:cubicBezTo>
                  <a:pt x="5648" y="15343"/>
                  <a:pt x="5780" y="15279"/>
                  <a:pt x="5928" y="15230"/>
                </a:cubicBezTo>
              </a:path>
              <a:path w="6103" h="2432">
                <a:moveTo>
                  <a:pt x="4936" y="15404"/>
                </a:moveTo>
                <a:cubicBezTo>
                  <a:pt x="4911" y="15404"/>
                  <a:pt x="4887" y="15404"/>
                  <a:pt x="4862" y="15404"/>
                </a:cubicBezTo>
                <a:cubicBezTo>
                  <a:pt x="4880" y="15330"/>
                  <a:pt x="4956" y="15302"/>
                  <a:pt x="5011" y="15255"/>
                </a:cubicBezTo>
                <a:cubicBezTo>
                  <a:pt x="5027" y="15238"/>
                  <a:pt x="5044" y="15222"/>
                  <a:pt x="5060" y="15205"/>
                </a:cubicBezTo>
              </a:path>
              <a:path w="6103" h="2432">
                <a:moveTo>
                  <a:pt x="6375" y="15379"/>
                </a:moveTo>
                <a:cubicBezTo>
                  <a:pt x="6412" y="15351"/>
                  <a:pt x="6450" y="15339"/>
                  <a:pt x="6499" y="15329"/>
                </a:cubicBezTo>
              </a:path>
              <a:path w="6103" h="2432">
                <a:moveTo>
                  <a:pt x="6350" y="15478"/>
                </a:moveTo>
                <a:cubicBezTo>
                  <a:pt x="6440" y="15465"/>
                  <a:pt x="6475" y="15433"/>
                  <a:pt x="6548" y="15453"/>
                </a:cubicBezTo>
              </a:path>
              <a:path w="6103" h="2432">
                <a:moveTo>
                  <a:pt x="7020" y="15429"/>
                </a:moveTo>
                <a:cubicBezTo>
                  <a:pt x="7400" y="15414"/>
                  <a:pt x="7781" y="15380"/>
                  <a:pt x="8161" y="15354"/>
                </a:cubicBezTo>
                <a:cubicBezTo>
                  <a:pt x="8284" y="15345"/>
                  <a:pt x="8640" y="15282"/>
                  <a:pt x="8756" y="15329"/>
                </a:cubicBezTo>
              </a:path>
              <a:path w="6103" h="2432">
                <a:moveTo>
                  <a:pt x="7144" y="15900"/>
                </a:moveTo>
                <a:cubicBezTo>
                  <a:pt x="7112" y="15805"/>
                  <a:pt x="7099" y="16023"/>
                  <a:pt x="7094" y="16123"/>
                </a:cubicBezTo>
                <a:cubicBezTo>
                  <a:pt x="7086" y="16263"/>
                  <a:pt x="7045" y="16322"/>
                  <a:pt x="7119" y="16321"/>
                </a:cubicBezTo>
              </a:path>
              <a:path w="6103" h="2432">
                <a:moveTo>
                  <a:pt x="7516" y="15900"/>
                </a:moveTo>
                <a:cubicBezTo>
                  <a:pt x="7432" y="16014"/>
                  <a:pt x="7338" y="16159"/>
                  <a:pt x="7441" y="16297"/>
                </a:cubicBezTo>
                <a:cubicBezTo>
                  <a:pt x="7466" y="16313"/>
                  <a:pt x="7491" y="16330"/>
                  <a:pt x="7516" y="16346"/>
                </a:cubicBezTo>
                <a:cubicBezTo>
                  <a:pt x="7680" y="16280"/>
                  <a:pt x="7748" y="16218"/>
                  <a:pt x="7689" y="16024"/>
                </a:cubicBezTo>
                <a:cubicBezTo>
                  <a:pt x="7658" y="15922"/>
                  <a:pt x="7617" y="15887"/>
                  <a:pt x="7541" y="15900"/>
                </a:cubicBezTo>
              </a:path>
              <a:path w="6103" h="2432">
                <a:moveTo>
                  <a:pt x="8210" y="15825"/>
                </a:moveTo>
                <a:cubicBezTo>
                  <a:pt x="8118" y="15969"/>
                  <a:pt x="8010" y="16105"/>
                  <a:pt x="8136" y="16272"/>
                </a:cubicBezTo>
                <a:cubicBezTo>
                  <a:pt x="8265" y="16443"/>
                  <a:pt x="8477" y="16196"/>
                  <a:pt x="8508" y="16073"/>
                </a:cubicBezTo>
                <a:cubicBezTo>
                  <a:pt x="8545" y="15925"/>
                  <a:pt x="8447" y="15903"/>
                  <a:pt x="8359" y="15825"/>
                </a:cubicBezTo>
              </a:path>
              <a:path w="6103" h="2432">
                <a:moveTo>
                  <a:pt x="5631" y="14684"/>
                </a:moveTo>
                <a:cubicBezTo>
                  <a:pt x="5561" y="14655"/>
                  <a:pt x="5490" y="14660"/>
                  <a:pt x="5407" y="14660"/>
                </a:cubicBezTo>
                <a:cubicBezTo>
                  <a:pt x="5407" y="14726"/>
                  <a:pt x="5407" y="14792"/>
                  <a:pt x="5407" y="14858"/>
                </a:cubicBezTo>
                <a:cubicBezTo>
                  <a:pt x="5465" y="14858"/>
                  <a:pt x="5535" y="14805"/>
                  <a:pt x="5581" y="14858"/>
                </a:cubicBezTo>
                <a:cubicBezTo>
                  <a:pt x="5677" y="14969"/>
                  <a:pt x="5604" y="15096"/>
                  <a:pt x="5482" y="15131"/>
                </a:cubicBezTo>
                <a:cubicBezTo>
                  <a:pt x="5435" y="15144"/>
                  <a:pt x="5420" y="15116"/>
                  <a:pt x="5383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16200" y="5392800"/>
            <a:ext cx="1081080" cy="349200"/>
          </a:xfrm>
          <a:custGeom>
            <a:avLst/>
            <a:gdLst/>
            <a:ahLst/>
            <a:rect l="l" t="t" r="r" b="b"/>
            <a:pathLst>
              <a:path w="3002" h="968">
                <a:moveTo>
                  <a:pt x="10344" y="15131"/>
                </a:moveTo>
                <a:cubicBezTo>
                  <a:pt x="10143" y="15211"/>
                  <a:pt x="10077" y="15439"/>
                  <a:pt x="10046" y="15652"/>
                </a:cubicBezTo>
                <a:cubicBezTo>
                  <a:pt x="10046" y="15812"/>
                  <a:pt x="10041" y="15857"/>
                  <a:pt x="10096" y="15949"/>
                </a:cubicBezTo>
                <a:cubicBezTo>
                  <a:pt x="10322" y="15917"/>
                  <a:pt x="10484" y="15853"/>
                  <a:pt x="10542" y="15602"/>
                </a:cubicBezTo>
                <a:cubicBezTo>
                  <a:pt x="10585" y="15417"/>
                  <a:pt x="10457" y="15346"/>
                  <a:pt x="10319" y="15280"/>
                </a:cubicBezTo>
                <a:cubicBezTo>
                  <a:pt x="10278" y="15260"/>
                  <a:pt x="10262" y="15241"/>
                  <a:pt x="10269" y="15280"/>
                </a:cubicBezTo>
              </a:path>
              <a:path w="3002" h="968">
                <a:moveTo>
                  <a:pt x="10864" y="15825"/>
                </a:moveTo>
                <a:cubicBezTo>
                  <a:pt x="10823" y="15867"/>
                  <a:pt x="10799" y="15875"/>
                  <a:pt x="10840" y="15900"/>
                </a:cubicBezTo>
                <a:cubicBezTo>
                  <a:pt x="10883" y="15883"/>
                  <a:pt x="10952" y="15840"/>
                  <a:pt x="10939" y="15776"/>
                </a:cubicBezTo>
                <a:cubicBezTo>
                  <a:pt x="10931" y="15751"/>
                  <a:pt x="10922" y="15726"/>
                  <a:pt x="10914" y="15701"/>
                </a:cubicBezTo>
              </a:path>
              <a:path w="3002" h="968">
                <a:moveTo>
                  <a:pt x="11187" y="15180"/>
                </a:moveTo>
                <a:cubicBezTo>
                  <a:pt x="11310" y="15200"/>
                  <a:pt x="11560" y="15270"/>
                  <a:pt x="11385" y="15453"/>
                </a:cubicBezTo>
                <a:cubicBezTo>
                  <a:pt x="11308" y="15492"/>
                  <a:pt x="11293" y="15491"/>
                  <a:pt x="11261" y="15528"/>
                </a:cubicBezTo>
                <a:cubicBezTo>
                  <a:pt x="11421" y="15458"/>
                  <a:pt x="11441" y="15456"/>
                  <a:pt x="11584" y="15528"/>
                </a:cubicBezTo>
                <a:cubicBezTo>
                  <a:pt x="11574" y="15707"/>
                  <a:pt x="11562" y="15845"/>
                  <a:pt x="11336" y="15850"/>
                </a:cubicBezTo>
                <a:cubicBezTo>
                  <a:pt x="11221" y="15827"/>
                  <a:pt x="11180" y="15828"/>
                  <a:pt x="11212" y="15726"/>
                </a:cubicBezTo>
              </a:path>
              <a:path w="3002" h="968">
                <a:moveTo>
                  <a:pt x="12229" y="14982"/>
                </a:moveTo>
                <a:cubicBezTo>
                  <a:pt x="12150" y="15007"/>
                  <a:pt x="11984" y="15044"/>
                  <a:pt x="11931" y="15106"/>
                </a:cubicBezTo>
                <a:cubicBezTo>
                  <a:pt x="11891" y="15153"/>
                  <a:pt x="11886" y="15294"/>
                  <a:pt x="11881" y="15354"/>
                </a:cubicBezTo>
                <a:cubicBezTo>
                  <a:pt x="11991" y="15354"/>
                  <a:pt x="12124" y="15301"/>
                  <a:pt x="12229" y="15329"/>
                </a:cubicBezTo>
                <a:cubicBezTo>
                  <a:pt x="12421" y="15380"/>
                  <a:pt x="12336" y="15566"/>
                  <a:pt x="12204" y="15627"/>
                </a:cubicBezTo>
                <a:cubicBezTo>
                  <a:pt x="12059" y="15694"/>
                  <a:pt x="11979" y="15651"/>
                  <a:pt x="11881" y="15577"/>
                </a:cubicBezTo>
              </a:path>
              <a:path w="3002" h="968">
                <a:moveTo>
                  <a:pt x="12626" y="15280"/>
                </a:moveTo>
                <a:cubicBezTo>
                  <a:pt x="12748" y="15266"/>
                  <a:pt x="12927" y="15217"/>
                  <a:pt x="13047" y="15230"/>
                </a:cubicBezTo>
                <a:cubicBezTo>
                  <a:pt x="13047" y="15238"/>
                  <a:pt x="13047" y="15247"/>
                  <a:pt x="13047" y="152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4040" y="5295960"/>
            <a:ext cx="716040" cy="365040"/>
          </a:xfrm>
          <a:custGeom>
            <a:avLst/>
            <a:gdLst/>
            <a:ahLst/>
            <a:rect l="l" t="t" r="r" b="b"/>
            <a:pathLst>
              <a:path w="1986" h="1018">
                <a:moveTo>
                  <a:pt x="13841" y="15131"/>
                </a:moveTo>
                <a:cubicBezTo>
                  <a:pt x="13918" y="15076"/>
                  <a:pt x="14159" y="14982"/>
                  <a:pt x="14188" y="15156"/>
                </a:cubicBezTo>
                <a:cubicBezTo>
                  <a:pt x="14209" y="15283"/>
                  <a:pt x="13971" y="15339"/>
                  <a:pt x="13891" y="15379"/>
                </a:cubicBezTo>
                <a:cubicBezTo>
                  <a:pt x="14076" y="15358"/>
                  <a:pt x="14089" y="15371"/>
                  <a:pt x="14238" y="15478"/>
                </a:cubicBezTo>
                <a:cubicBezTo>
                  <a:pt x="14159" y="15635"/>
                  <a:pt x="14048" y="15776"/>
                  <a:pt x="13841" y="15701"/>
                </a:cubicBezTo>
                <a:cubicBezTo>
                  <a:pt x="13778" y="15639"/>
                  <a:pt x="13761" y="15605"/>
                  <a:pt x="13791" y="15528"/>
                </a:cubicBezTo>
              </a:path>
              <a:path w="1986" h="1018">
                <a:moveTo>
                  <a:pt x="14808" y="15032"/>
                </a:moveTo>
                <a:cubicBezTo>
                  <a:pt x="14739" y="15048"/>
                  <a:pt x="14589" y="15028"/>
                  <a:pt x="14536" y="15081"/>
                </a:cubicBezTo>
                <a:cubicBezTo>
                  <a:pt x="14485" y="15132"/>
                  <a:pt x="14436" y="15208"/>
                  <a:pt x="14436" y="15280"/>
                </a:cubicBezTo>
                <a:cubicBezTo>
                  <a:pt x="14567" y="15261"/>
                  <a:pt x="14738" y="15164"/>
                  <a:pt x="14858" y="15280"/>
                </a:cubicBezTo>
                <a:cubicBezTo>
                  <a:pt x="15051" y="15465"/>
                  <a:pt x="14751" y="15624"/>
                  <a:pt x="14610" y="15652"/>
                </a:cubicBezTo>
                <a:cubicBezTo>
                  <a:pt x="14497" y="15652"/>
                  <a:pt x="14462" y="15661"/>
                  <a:pt x="14436" y="15577"/>
                </a:cubicBezTo>
              </a:path>
              <a:path w="1986" h="1018">
                <a:moveTo>
                  <a:pt x="15354" y="14759"/>
                </a:moveTo>
                <a:cubicBezTo>
                  <a:pt x="15201" y="14930"/>
                  <a:pt x="15188" y="14900"/>
                  <a:pt x="15280" y="15106"/>
                </a:cubicBezTo>
                <a:cubicBezTo>
                  <a:pt x="15464" y="15057"/>
                  <a:pt x="15498" y="14973"/>
                  <a:pt x="15404" y="14784"/>
                </a:cubicBezTo>
                <a:cubicBezTo>
                  <a:pt x="15374" y="14754"/>
                  <a:pt x="15372" y="14743"/>
                  <a:pt x="15429" y="14734"/>
                </a:cubicBezTo>
                <a:cubicBezTo>
                  <a:pt x="15695" y="14734"/>
                  <a:pt x="15863" y="14859"/>
                  <a:pt x="15751" y="15180"/>
                </a:cubicBezTo>
                <a:cubicBezTo>
                  <a:pt x="15682" y="15377"/>
                  <a:pt x="15517" y="15529"/>
                  <a:pt x="15379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11920" y="4956120"/>
            <a:ext cx="1106280" cy="17640"/>
          </a:xfrm>
          <a:custGeom>
            <a:avLst/>
            <a:gdLst/>
            <a:ahLst/>
            <a:rect l="l" t="t" r="r" b="b"/>
            <a:pathLst>
              <a:path w="3076" h="50">
                <a:moveTo>
                  <a:pt x="16421" y="13767"/>
                </a:moveTo>
                <a:cubicBezTo>
                  <a:pt x="16564" y="13767"/>
                  <a:pt x="16698" y="13789"/>
                  <a:pt x="16842" y="13791"/>
                </a:cubicBezTo>
                <a:cubicBezTo>
                  <a:pt x="17381" y="13798"/>
                  <a:pt x="17919" y="13793"/>
                  <a:pt x="18455" y="13816"/>
                </a:cubicBezTo>
                <a:cubicBezTo>
                  <a:pt x="18745" y="13829"/>
                  <a:pt x="19038" y="13818"/>
                  <a:pt x="19323" y="13791"/>
                </a:cubicBezTo>
                <a:cubicBezTo>
                  <a:pt x="19364" y="13787"/>
                  <a:pt x="19459" y="13764"/>
                  <a:pt x="19472" y="13767"/>
                </a:cubicBezTo>
                <a:cubicBezTo>
                  <a:pt x="19533" y="13779"/>
                  <a:pt x="19475" y="13783"/>
                  <a:pt x="19472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03200" y="5715000"/>
            <a:ext cx="24156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3820" y="15875"/>
                </a:moveTo>
                <a:cubicBezTo>
                  <a:pt x="3660" y="16175"/>
                  <a:pt x="3584" y="16299"/>
                  <a:pt x="3696" y="16619"/>
                </a:cubicBezTo>
                <a:cubicBezTo>
                  <a:pt x="3960" y="16588"/>
                  <a:pt x="4281" y="16487"/>
                  <a:pt x="4291" y="16148"/>
                </a:cubicBezTo>
                <a:cubicBezTo>
                  <a:pt x="4299" y="15894"/>
                  <a:pt x="4010" y="15909"/>
                  <a:pt x="3845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rah is practicing her basketball shooting. She took 25 practice shots and her results are listed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Missed Missed Made Made Missed Made Made Missd Missed Missed Made Made Made Made Made Missed Made Missed Made Made Made Missed Mad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he results, what is the experimental probability she will make the next sh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51160" y="3902040"/>
            <a:ext cx="5865840" cy="2697120"/>
          </a:xfrm>
          <a:custGeom>
            <a:avLst/>
            <a:gdLst/>
            <a:ahLst/>
            <a:rect l="l" t="t" r="r" b="b"/>
            <a:pathLst>
              <a:path w="16298" h="7492">
                <a:moveTo>
                  <a:pt x="15379" y="16247"/>
                </a:moveTo>
                <a:cubicBezTo>
                  <a:pt x="15371" y="16247"/>
                  <a:pt x="15362" y="16247"/>
                  <a:pt x="15354" y="16247"/>
                </a:cubicBezTo>
              </a:path>
              <a:path w="16298" h="7492">
                <a:moveTo>
                  <a:pt x="11509" y="15652"/>
                </a:moveTo>
                <a:cubicBezTo>
                  <a:pt x="11631" y="15600"/>
                  <a:pt x="11817" y="15627"/>
                  <a:pt x="11956" y="15627"/>
                </a:cubicBezTo>
                <a:cubicBezTo>
                  <a:pt x="12255" y="15627"/>
                  <a:pt x="12551" y="15607"/>
                  <a:pt x="12849" y="15602"/>
                </a:cubicBezTo>
                <a:cubicBezTo>
                  <a:pt x="12956" y="15600"/>
                  <a:pt x="13064" y="15602"/>
                  <a:pt x="13171" y="15602"/>
                </a:cubicBezTo>
              </a:path>
              <a:path w="16298" h="7492">
                <a:moveTo>
                  <a:pt x="11584" y="15553"/>
                </a:moveTo>
                <a:cubicBezTo>
                  <a:pt x="12023" y="15553"/>
                  <a:pt x="12460" y="15560"/>
                  <a:pt x="12898" y="15528"/>
                </a:cubicBezTo>
                <a:cubicBezTo>
                  <a:pt x="13132" y="15511"/>
                  <a:pt x="13359" y="15503"/>
                  <a:pt x="13593" y="15503"/>
                </a:cubicBezTo>
                <a:cubicBezTo>
                  <a:pt x="13601" y="15503"/>
                  <a:pt x="13610" y="15503"/>
                  <a:pt x="13618" y="15503"/>
                </a:cubicBezTo>
              </a:path>
              <a:path w="16298" h="7492">
                <a:moveTo>
                  <a:pt x="12204" y="15429"/>
                </a:moveTo>
                <a:cubicBezTo>
                  <a:pt x="12626" y="15462"/>
                  <a:pt x="13046" y="15498"/>
                  <a:pt x="13469" y="15503"/>
                </a:cubicBezTo>
                <a:cubicBezTo>
                  <a:pt x="13576" y="15504"/>
                  <a:pt x="13684" y="15503"/>
                  <a:pt x="13791" y="15503"/>
                </a:cubicBezTo>
              </a:path>
              <a:path w="16298" h="7492">
                <a:moveTo>
                  <a:pt x="9029" y="16768"/>
                </a:moveTo>
                <a:cubicBezTo>
                  <a:pt x="9132" y="16755"/>
                  <a:pt x="9275" y="16689"/>
                  <a:pt x="9376" y="16694"/>
                </a:cubicBezTo>
                <a:cubicBezTo>
                  <a:pt x="9384" y="16702"/>
                  <a:pt x="9393" y="16710"/>
                  <a:pt x="9401" y="16718"/>
                </a:cubicBezTo>
              </a:path>
              <a:path w="16298" h="7492">
                <a:moveTo>
                  <a:pt x="9103" y="17090"/>
                </a:moveTo>
                <a:cubicBezTo>
                  <a:pt x="9235" y="17064"/>
                  <a:pt x="9348" y="17036"/>
                  <a:pt x="9475" y="16991"/>
                </a:cubicBezTo>
              </a:path>
              <a:path w="16298" h="7492">
                <a:moveTo>
                  <a:pt x="9847" y="17140"/>
                </a:moveTo>
                <a:cubicBezTo>
                  <a:pt x="10233" y="17122"/>
                  <a:pt x="10628" y="17105"/>
                  <a:pt x="11013" y="17066"/>
                </a:cubicBezTo>
                <a:cubicBezTo>
                  <a:pt x="11228" y="17044"/>
                  <a:pt x="11776" y="17016"/>
                  <a:pt x="11559" y="17016"/>
                </a:cubicBezTo>
              </a:path>
              <a:path w="16298" h="7492">
                <a:moveTo>
                  <a:pt x="9996" y="17661"/>
                </a:moveTo>
                <a:cubicBezTo>
                  <a:pt x="9928" y="17893"/>
                  <a:pt x="9646" y="18495"/>
                  <a:pt x="9823" y="18331"/>
                </a:cubicBezTo>
                <a:cubicBezTo>
                  <a:pt x="9864" y="18281"/>
                  <a:pt x="9906" y="18232"/>
                  <a:pt x="9947" y="18182"/>
                </a:cubicBezTo>
              </a:path>
              <a:path w="16298" h="7492">
                <a:moveTo>
                  <a:pt x="10592" y="17636"/>
                </a:moveTo>
                <a:cubicBezTo>
                  <a:pt x="10502" y="17802"/>
                  <a:pt x="10449" y="17820"/>
                  <a:pt x="10517" y="17983"/>
                </a:cubicBezTo>
                <a:cubicBezTo>
                  <a:pt x="10612" y="17978"/>
                  <a:pt x="10994" y="17865"/>
                  <a:pt x="10889" y="17661"/>
                </a:cubicBezTo>
                <a:cubicBezTo>
                  <a:pt x="10801" y="17489"/>
                  <a:pt x="10459" y="17626"/>
                  <a:pt x="10666" y="17487"/>
                </a:cubicBezTo>
              </a:path>
              <a:path w="16298" h="7492">
                <a:moveTo>
                  <a:pt x="11162" y="17462"/>
                </a:moveTo>
                <a:cubicBezTo>
                  <a:pt x="11064" y="17651"/>
                  <a:pt x="11044" y="17698"/>
                  <a:pt x="11063" y="17909"/>
                </a:cubicBezTo>
                <a:cubicBezTo>
                  <a:pt x="11273" y="17941"/>
                  <a:pt x="11462" y="17852"/>
                  <a:pt x="11509" y="17587"/>
                </a:cubicBezTo>
                <a:cubicBezTo>
                  <a:pt x="11545" y="17382"/>
                  <a:pt x="11330" y="17423"/>
                  <a:pt x="11212" y="17413"/>
                </a:cubicBezTo>
              </a:path>
              <a:path w="16298" h="7492">
                <a:moveTo>
                  <a:pt x="25251" y="10914"/>
                </a:moveTo>
                <a:cubicBezTo>
                  <a:pt x="25209" y="10998"/>
                  <a:pt x="25285" y="11125"/>
                  <a:pt x="25326" y="108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5153040"/>
            <a:ext cx="1884240" cy="71280"/>
          </a:xfrm>
          <a:custGeom>
            <a:avLst/>
            <a:gdLst/>
            <a:ahLst/>
            <a:rect l="l" t="t" r="r" b="b"/>
            <a:pathLst>
              <a:path w="5235" h="200">
                <a:moveTo>
                  <a:pt x="15453" y="14387"/>
                </a:moveTo>
                <a:cubicBezTo>
                  <a:pt x="15502" y="14408"/>
                  <a:pt x="15573" y="14441"/>
                  <a:pt x="15652" y="14461"/>
                </a:cubicBezTo>
                <a:cubicBezTo>
                  <a:pt x="15805" y="14500"/>
                  <a:pt x="15919" y="14520"/>
                  <a:pt x="16073" y="14486"/>
                </a:cubicBezTo>
                <a:cubicBezTo>
                  <a:pt x="16198" y="14458"/>
                  <a:pt x="16276" y="14469"/>
                  <a:pt x="16396" y="14486"/>
                </a:cubicBezTo>
                <a:cubicBezTo>
                  <a:pt x="16511" y="14502"/>
                  <a:pt x="16576" y="14508"/>
                  <a:pt x="16694" y="14486"/>
                </a:cubicBezTo>
                <a:cubicBezTo>
                  <a:pt x="16803" y="14466"/>
                  <a:pt x="16931" y="14410"/>
                  <a:pt x="17041" y="14412"/>
                </a:cubicBezTo>
                <a:cubicBezTo>
                  <a:pt x="17167" y="14414"/>
                  <a:pt x="17282" y="14450"/>
                  <a:pt x="17413" y="14436"/>
                </a:cubicBezTo>
                <a:cubicBezTo>
                  <a:pt x="17602" y="14415"/>
                  <a:pt x="17752" y="14354"/>
                  <a:pt x="17934" y="14362"/>
                </a:cubicBezTo>
                <a:cubicBezTo>
                  <a:pt x="18054" y="14367"/>
                  <a:pt x="18189" y="14355"/>
                  <a:pt x="18306" y="14337"/>
                </a:cubicBezTo>
                <a:cubicBezTo>
                  <a:pt x="18436" y="14317"/>
                  <a:pt x="18528" y="14341"/>
                  <a:pt x="18653" y="14337"/>
                </a:cubicBezTo>
                <a:cubicBezTo>
                  <a:pt x="18787" y="14332"/>
                  <a:pt x="18913" y="14299"/>
                  <a:pt x="19050" y="14312"/>
                </a:cubicBezTo>
                <a:cubicBezTo>
                  <a:pt x="19179" y="14325"/>
                  <a:pt x="19318" y="14357"/>
                  <a:pt x="19447" y="14387"/>
                </a:cubicBezTo>
                <a:cubicBezTo>
                  <a:pt x="19594" y="14421"/>
                  <a:pt x="19745" y="14412"/>
                  <a:pt x="19893" y="14436"/>
                </a:cubicBezTo>
                <a:cubicBezTo>
                  <a:pt x="20031" y="14458"/>
                  <a:pt x="20173" y="14451"/>
                  <a:pt x="20315" y="14461"/>
                </a:cubicBezTo>
                <a:cubicBezTo>
                  <a:pt x="20438" y="14470"/>
                  <a:pt x="20564" y="14461"/>
                  <a:pt x="20687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6720" y="2625840"/>
            <a:ext cx="1009440" cy="1170000"/>
          </a:xfrm>
          <a:custGeom>
            <a:avLst/>
            <a:gdLst/>
            <a:ahLst/>
            <a:rect l="l" t="t" r="r" b="b"/>
            <a:pathLst>
              <a:path w="2804" h="3250">
                <a:moveTo>
                  <a:pt x="22696" y="8880"/>
                </a:moveTo>
                <a:cubicBezTo>
                  <a:pt x="22782" y="8843"/>
                  <a:pt x="23039" y="8855"/>
                  <a:pt x="23143" y="8855"/>
                </a:cubicBezTo>
                <a:cubicBezTo>
                  <a:pt x="23563" y="8855"/>
                  <a:pt x="24018" y="8781"/>
                  <a:pt x="24433" y="8806"/>
                </a:cubicBezTo>
                <a:cubicBezTo>
                  <a:pt x="24500" y="8810"/>
                  <a:pt x="24428" y="8826"/>
                  <a:pt x="24408" y="8830"/>
                </a:cubicBezTo>
              </a:path>
              <a:path w="2804" h="3250">
                <a:moveTo>
                  <a:pt x="23192" y="9351"/>
                </a:moveTo>
                <a:cubicBezTo>
                  <a:pt x="23216" y="9321"/>
                  <a:pt x="23276" y="9217"/>
                  <a:pt x="23316" y="9178"/>
                </a:cubicBezTo>
                <a:cubicBezTo>
                  <a:pt x="23390" y="9106"/>
                  <a:pt x="23520" y="8987"/>
                  <a:pt x="23614" y="9103"/>
                </a:cubicBezTo>
                <a:cubicBezTo>
                  <a:pt x="23723" y="9238"/>
                  <a:pt x="23547" y="9457"/>
                  <a:pt x="23465" y="9575"/>
                </a:cubicBezTo>
                <a:cubicBezTo>
                  <a:pt x="23361" y="9725"/>
                  <a:pt x="23247" y="9870"/>
                  <a:pt x="23143" y="10021"/>
                </a:cubicBezTo>
                <a:cubicBezTo>
                  <a:pt x="23187" y="9925"/>
                  <a:pt x="23228" y="9822"/>
                  <a:pt x="23341" y="9773"/>
                </a:cubicBezTo>
                <a:cubicBezTo>
                  <a:pt x="23436" y="9732"/>
                  <a:pt x="23565" y="9861"/>
                  <a:pt x="23664" y="9847"/>
                </a:cubicBezTo>
                <a:cubicBezTo>
                  <a:pt x="23774" y="9831"/>
                  <a:pt x="23816" y="9769"/>
                  <a:pt x="23887" y="9699"/>
                </a:cubicBezTo>
              </a:path>
              <a:path w="2804" h="3250">
                <a:moveTo>
                  <a:pt x="23589" y="7888"/>
                </a:moveTo>
                <a:cubicBezTo>
                  <a:pt x="23609" y="7927"/>
                  <a:pt x="23614" y="8184"/>
                  <a:pt x="23614" y="8310"/>
                </a:cubicBezTo>
                <a:cubicBezTo>
                  <a:pt x="23614" y="8388"/>
                  <a:pt x="23554" y="8463"/>
                  <a:pt x="23589" y="8533"/>
                </a:cubicBezTo>
                <a:cubicBezTo>
                  <a:pt x="23614" y="8533"/>
                  <a:pt x="23622" y="8533"/>
                  <a:pt x="23614" y="8558"/>
                </a:cubicBezTo>
              </a:path>
              <a:path w="2804" h="3250">
                <a:moveTo>
                  <a:pt x="22572" y="10021"/>
                </a:moveTo>
                <a:cubicBezTo>
                  <a:pt x="22601" y="10060"/>
                  <a:pt x="22590" y="10059"/>
                  <a:pt x="22622" y="10096"/>
                </a:cubicBezTo>
                <a:cubicBezTo>
                  <a:pt x="22706" y="10192"/>
                  <a:pt x="22790" y="10294"/>
                  <a:pt x="22895" y="10368"/>
                </a:cubicBezTo>
                <a:cubicBezTo>
                  <a:pt x="23025" y="10460"/>
                  <a:pt x="23216" y="10468"/>
                  <a:pt x="23366" y="10492"/>
                </a:cubicBezTo>
                <a:cubicBezTo>
                  <a:pt x="23539" y="10520"/>
                  <a:pt x="23710" y="10562"/>
                  <a:pt x="23887" y="10542"/>
                </a:cubicBezTo>
                <a:cubicBezTo>
                  <a:pt x="23974" y="10532"/>
                  <a:pt x="24128" y="10499"/>
                  <a:pt x="24209" y="10468"/>
                </a:cubicBezTo>
                <a:cubicBezTo>
                  <a:pt x="24309" y="10430"/>
                  <a:pt x="24441" y="10396"/>
                  <a:pt x="24532" y="10344"/>
                </a:cubicBezTo>
                <a:cubicBezTo>
                  <a:pt x="24610" y="10299"/>
                  <a:pt x="24695" y="10147"/>
                  <a:pt x="24730" y="10071"/>
                </a:cubicBezTo>
                <a:cubicBezTo>
                  <a:pt x="24781" y="9961"/>
                  <a:pt x="24800" y="9816"/>
                  <a:pt x="24829" y="9699"/>
                </a:cubicBezTo>
                <a:cubicBezTo>
                  <a:pt x="24860" y="9576"/>
                  <a:pt x="24859" y="9451"/>
                  <a:pt x="24879" y="9327"/>
                </a:cubicBezTo>
                <a:cubicBezTo>
                  <a:pt x="24893" y="9242"/>
                  <a:pt x="24902" y="9167"/>
                  <a:pt x="24904" y="9079"/>
                </a:cubicBezTo>
                <a:cubicBezTo>
                  <a:pt x="24908" y="8878"/>
                  <a:pt x="24908" y="8678"/>
                  <a:pt x="24879" y="8483"/>
                </a:cubicBezTo>
                <a:cubicBezTo>
                  <a:pt x="24864" y="8383"/>
                  <a:pt x="24845" y="8305"/>
                  <a:pt x="24805" y="8210"/>
                </a:cubicBezTo>
                <a:cubicBezTo>
                  <a:pt x="24747" y="8071"/>
                  <a:pt x="24650" y="7952"/>
                  <a:pt x="24557" y="7838"/>
                </a:cubicBezTo>
                <a:cubicBezTo>
                  <a:pt x="24478" y="7742"/>
                  <a:pt x="24409" y="7667"/>
                  <a:pt x="24309" y="7590"/>
                </a:cubicBezTo>
                <a:cubicBezTo>
                  <a:pt x="24202" y="7508"/>
                  <a:pt x="24081" y="7452"/>
                  <a:pt x="23961" y="7392"/>
                </a:cubicBezTo>
                <a:cubicBezTo>
                  <a:pt x="23826" y="7325"/>
                  <a:pt x="23690" y="7297"/>
                  <a:pt x="23540" y="7293"/>
                </a:cubicBezTo>
                <a:cubicBezTo>
                  <a:pt x="23359" y="7289"/>
                  <a:pt x="23215" y="7303"/>
                  <a:pt x="23044" y="7367"/>
                </a:cubicBezTo>
                <a:cubicBezTo>
                  <a:pt x="22885" y="7426"/>
                  <a:pt x="22772" y="7503"/>
                  <a:pt x="22647" y="7615"/>
                </a:cubicBezTo>
                <a:cubicBezTo>
                  <a:pt x="22546" y="7705"/>
                  <a:pt x="22457" y="7781"/>
                  <a:pt x="22374" y="7888"/>
                </a:cubicBezTo>
                <a:cubicBezTo>
                  <a:pt x="22294" y="7991"/>
                  <a:pt x="22242" y="8090"/>
                  <a:pt x="22200" y="8210"/>
                </a:cubicBezTo>
                <a:cubicBezTo>
                  <a:pt x="22168" y="8301"/>
                  <a:pt x="22143" y="8390"/>
                  <a:pt x="22126" y="8483"/>
                </a:cubicBezTo>
                <a:cubicBezTo>
                  <a:pt x="22102" y="8615"/>
                  <a:pt x="22105" y="8723"/>
                  <a:pt x="22126" y="8855"/>
                </a:cubicBezTo>
                <a:cubicBezTo>
                  <a:pt x="22143" y="8964"/>
                  <a:pt x="22146" y="9071"/>
                  <a:pt x="22175" y="9178"/>
                </a:cubicBezTo>
                <a:cubicBezTo>
                  <a:pt x="22204" y="9287"/>
                  <a:pt x="22238" y="9387"/>
                  <a:pt x="22250" y="9500"/>
                </a:cubicBezTo>
                <a:cubicBezTo>
                  <a:pt x="22263" y="9626"/>
                  <a:pt x="22284" y="9751"/>
                  <a:pt x="22324" y="9872"/>
                </a:cubicBezTo>
                <a:cubicBezTo>
                  <a:pt x="22346" y="9939"/>
                  <a:pt x="22386" y="10036"/>
                  <a:pt x="22423" y="10096"/>
                </a:cubicBezTo>
                <a:cubicBezTo>
                  <a:pt x="22478" y="10185"/>
                  <a:pt x="22517" y="10213"/>
                  <a:pt x="22597" y="10269"/>
                </a:cubicBezTo>
                <a:cubicBezTo>
                  <a:pt x="22641" y="10300"/>
                  <a:pt x="22721" y="10356"/>
                  <a:pt x="22771" y="10368"/>
                </a:cubicBezTo>
                <a:cubicBezTo>
                  <a:pt x="22802" y="10375"/>
                  <a:pt x="22838" y="10364"/>
                  <a:pt x="22870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89960" y="3687840"/>
            <a:ext cx="500040" cy="349200"/>
          </a:xfrm>
          <a:custGeom>
            <a:avLst/>
            <a:gdLst/>
            <a:ahLst/>
            <a:rect l="l" t="t" r="r" b="b"/>
            <a:pathLst>
              <a:path w="1390" h="969">
                <a:moveTo>
                  <a:pt x="23937" y="10815"/>
                </a:moveTo>
                <a:cubicBezTo>
                  <a:pt x="23937" y="10807"/>
                  <a:pt x="23937" y="10723"/>
                  <a:pt x="23937" y="10790"/>
                </a:cubicBezTo>
                <a:cubicBezTo>
                  <a:pt x="23971" y="10993"/>
                  <a:pt x="23994" y="10805"/>
                  <a:pt x="24135" y="10914"/>
                </a:cubicBezTo>
                <a:cubicBezTo>
                  <a:pt x="24248" y="11001"/>
                  <a:pt x="23995" y="11183"/>
                  <a:pt x="23937" y="11212"/>
                </a:cubicBezTo>
                <a:cubicBezTo>
                  <a:pt x="23885" y="11212"/>
                  <a:pt x="23867" y="11210"/>
                  <a:pt x="23862" y="11162"/>
                </a:cubicBezTo>
              </a:path>
              <a:path w="1390" h="969">
                <a:moveTo>
                  <a:pt x="24036" y="10716"/>
                </a:moveTo>
                <a:cubicBezTo>
                  <a:pt x="24178" y="10645"/>
                  <a:pt x="24305" y="10614"/>
                  <a:pt x="24457" y="10567"/>
                </a:cubicBezTo>
              </a:path>
              <a:path w="1390" h="969">
                <a:moveTo>
                  <a:pt x="24557" y="10567"/>
                </a:moveTo>
                <a:cubicBezTo>
                  <a:pt x="24493" y="10674"/>
                  <a:pt x="24447" y="10771"/>
                  <a:pt x="24408" y="10889"/>
                </a:cubicBezTo>
                <a:cubicBezTo>
                  <a:pt x="24516" y="10962"/>
                  <a:pt x="24652" y="10975"/>
                  <a:pt x="24705" y="10815"/>
                </a:cubicBezTo>
                <a:cubicBezTo>
                  <a:pt x="24759" y="10651"/>
                  <a:pt x="24636" y="10554"/>
                  <a:pt x="24507" y="10567"/>
                </a:cubicBezTo>
              </a:path>
              <a:path w="1390" h="969">
                <a:moveTo>
                  <a:pt x="24854" y="10344"/>
                </a:moveTo>
                <a:cubicBezTo>
                  <a:pt x="24822" y="10424"/>
                  <a:pt x="24813" y="10461"/>
                  <a:pt x="24829" y="10542"/>
                </a:cubicBezTo>
                <a:cubicBezTo>
                  <a:pt x="24984" y="10525"/>
                  <a:pt x="24992" y="10468"/>
                  <a:pt x="25003" y="10319"/>
                </a:cubicBezTo>
                <a:cubicBezTo>
                  <a:pt x="25003" y="10274"/>
                  <a:pt x="25000" y="10261"/>
                  <a:pt x="25028" y="10244"/>
                </a:cubicBezTo>
                <a:cubicBezTo>
                  <a:pt x="25187" y="10276"/>
                  <a:pt x="25307" y="10392"/>
                  <a:pt x="25251" y="10592"/>
                </a:cubicBezTo>
                <a:cubicBezTo>
                  <a:pt x="25220" y="10703"/>
                  <a:pt x="25096" y="10823"/>
                  <a:pt x="25028" y="109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36920" y="6037200"/>
            <a:ext cx="3946320" cy="98640"/>
          </a:xfrm>
          <a:custGeom>
            <a:avLst/>
            <a:gdLst/>
            <a:ahLst/>
            <a:rect l="l" t="t" r="r" b="b"/>
            <a:pathLst>
              <a:path w="10964" h="274">
                <a:moveTo>
                  <a:pt x="7193" y="16768"/>
                </a:moveTo>
                <a:cubicBezTo>
                  <a:pt x="7109" y="16916"/>
                  <a:pt x="7089" y="16947"/>
                  <a:pt x="7045" y="17041"/>
                </a:cubicBezTo>
              </a:path>
              <a:path w="10964" h="274">
                <a:moveTo>
                  <a:pt x="17636" y="16942"/>
                </a:moveTo>
                <a:cubicBezTo>
                  <a:pt x="17693" y="17005"/>
                  <a:pt x="18016" y="17125"/>
                  <a:pt x="18008" y="16892"/>
                </a:cubicBezTo>
                <a:cubicBezTo>
                  <a:pt x="17983" y="16867"/>
                  <a:pt x="17959" y="16843"/>
                  <a:pt x="17934" y="168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93960" y="5769000"/>
            <a:ext cx="1017360" cy="749160"/>
          </a:xfrm>
          <a:custGeom>
            <a:avLst/>
            <a:gdLst/>
            <a:ahLst/>
            <a:rect l="l" t="t" r="r" b="b"/>
            <a:pathLst>
              <a:path w="2828" h="2084">
                <a:moveTo>
                  <a:pt x="5432" y="17016"/>
                </a:moveTo>
                <a:cubicBezTo>
                  <a:pt x="5720" y="16990"/>
                  <a:pt x="6013" y="16910"/>
                  <a:pt x="6300" y="16867"/>
                </a:cubicBezTo>
                <a:cubicBezTo>
                  <a:pt x="6385" y="16854"/>
                  <a:pt x="6916" y="16760"/>
                  <a:pt x="6921" y="16793"/>
                </a:cubicBezTo>
                <a:cubicBezTo>
                  <a:pt x="6921" y="16801"/>
                  <a:pt x="6921" y="16810"/>
                  <a:pt x="6921" y="16818"/>
                </a:cubicBezTo>
              </a:path>
              <a:path w="2828" h="2084">
                <a:moveTo>
                  <a:pt x="5705" y="17363"/>
                </a:moveTo>
                <a:cubicBezTo>
                  <a:pt x="5824" y="17245"/>
                  <a:pt x="5835" y="17256"/>
                  <a:pt x="6003" y="17264"/>
                </a:cubicBezTo>
                <a:cubicBezTo>
                  <a:pt x="6141" y="17635"/>
                  <a:pt x="6019" y="17814"/>
                  <a:pt x="5655" y="18008"/>
                </a:cubicBezTo>
                <a:cubicBezTo>
                  <a:pt x="5432" y="18089"/>
                  <a:pt x="5390" y="18141"/>
                  <a:pt x="5259" y="18058"/>
                </a:cubicBezTo>
                <a:cubicBezTo>
                  <a:pt x="5375" y="17819"/>
                  <a:pt x="5518" y="17511"/>
                  <a:pt x="5854" y="17686"/>
                </a:cubicBezTo>
                <a:cubicBezTo>
                  <a:pt x="5941" y="17773"/>
                  <a:pt x="5965" y="17792"/>
                  <a:pt x="6003" y="17859"/>
                </a:cubicBezTo>
              </a:path>
              <a:path w="2828" h="2084">
                <a:moveTo>
                  <a:pt x="6821" y="17066"/>
                </a:moveTo>
                <a:cubicBezTo>
                  <a:pt x="6664" y="17118"/>
                  <a:pt x="6516" y="17155"/>
                  <a:pt x="6350" y="17165"/>
                </a:cubicBezTo>
                <a:cubicBezTo>
                  <a:pt x="6286" y="17169"/>
                  <a:pt x="6269" y="17421"/>
                  <a:pt x="6251" y="17487"/>
                </a:cubicBezTo>
                <a:cubicBezTo>
                  <a:pt x="6384" y="17431"/>
                  <a:pt x="6486" y="17346"/>
                  <a:pt x="6648" y="17413"/>
                </a:cubicBezTo>
                <a:cubicBezTo>
                  <a:pt x="6896" y="17515"/>
                  <a:pt x="6746" y="17774"/>
                  <a:pt x="6548" y="17810"/>
                </a:cubicBezTo>
                <a:cubicBezTo>
                  <a:pt x="6417" y="17834"/>
                  <a:pt x="6343" y="17802"/>
                  <a:pt x="6226" y="17785"/>
                </a:cubicBezTo>
              </a:path>
              <a:path w="2828" h="2084">
                <a:moveTo>
                  <a:pt x="5779" y="16197"/>
                </a:moveTo>
                <a:cubicBezTo>
                  <a:pt x="5723" y="16216"/>
                  <a:pt x="5686" y="16522"/>
                  <a:pt x="5680" y="16545"/>
                </a:cubicBezTo>
                <a:cubicBezTo>
                  <a:pt x="5679" y="16550"/>
                  <a:pt x="5606" y="17016"/>
                  <a:pt x="5606" y="16743"/>
                </a:cubicBezTo>
              </a:path>
              <a:path w="2828" h="2084">
                <a:moveTo>
                  <a:pt x="6424" y="16148"/>
                </a:moveTo>
                <a:cubicBezTo>
                  <a:pt x="6370" y="16158"/>
                  <a:pt x="6059" y="16117"/>
                  <a:pt x="6052" y="16123"/>
                </a:cubicBezTo>
                <a:cubicBezTo>
                  <a:pt x="6007" y="16159"/>
                  <a:pt x="6028" y="16318"/>
                  <a:pt x="6028" y="16371"/>
                </a:cubicBezTo>
                <a:cubicBezTo>
                  <a:pt x="6160" y="16295"/>
                  <a:pt x="6279" y="16204"/>
                  <a:pt x="6424" y="16297"/>
                </a:cubicBezTo>
                <a:cubicBezTo>
                  <a:pt x="6652" y="16443"/>
                  <a:pt x="6389" y="16603"/>
                  <a:pt x="6251" y="16644"/>
                </a:cubicBezTo>
                <a:cubicBezTo>
                  <a:pt x="6124" y="16682"/>
                  <a:pt x="6093" y="16660"/>
                  <a:pt x="5978" y="16644"/>
                </a:cubicBezTo>
              </a:path>
              <a:path w="2828" h="2084">
                <a:moveTo>
                  <a:pt x="7020" y="16694"/>
                </a:moveTo>
                <a:cubicBezTo>
                  <a:pt x="7020" y="16653"/>
                  <a:pt x="7124" y="16812"/>
                  <a:pt x="7144" y="16842"/>
                </a:cubicBezTo>
                <a:cubicBezTo>
                  <a:pt x="7242" y="16986"/>
                  <a:pt x="7261" y="17106"/>
                  <a:pt x="7317" y="16892"/>
                </a:cubicBezTo>
              </a:path>
              <a:path w="2828" h="2084">
                <a:moveTo>
                  <a:pt x="7714" y="16966"/>
                </a:moveTo>
                <a:cubicBezTo>
                  <a:pt x="7698" y="17052"/>
                  <a:pt x="7689" y="17133"/>
                  <a:pt x="7665" y="17214"/>
                </a:cubicBezTo>
                <a:cubicBezTo>
                  <a:pt x="7758" y="17214"/>
                  <a:pt x="7878" y="17209"/>
                  <a:pt x="7962" y="17165"/>
                </a:cubicBezTo>
                <a:cubicBezTo>
                  <a:pt x="7979" y="17148"/>
                  <a:pt x="7995" y="17132"/>
                  <a:pt x="8012" y="17115"/>
                </a:cubicBezTo>
              </a:path>
              <a:path w="2828" h="2084">
                <a:moveTo>
                  <a:pt x="7913" y="17066"/>
                </a:moveTo>
                <a:cubicBezTo>
                  <a:pt x="7895" y="17226"/>
                  <a:pt x="7888" y="17376"/>
                  <a:pt x="7888" y="17537"/>
                </a:cubicBezTo>
                <a:cubicBezTo>
                  <a:pt x="7888" y="17529"/>
                  <a:pt x="7888" y="17520"/>
                  <a:pt x="7888" y="17512"/>
                </a:cubicBezTo>
              </a:path>
              <a:path w="2828" h="2084">
                <a:moveTo>
                  <a:pt x="7516" y="16694"/>
                </a:moveTo>
                <a:cubicBezTo>
                  <a:pt x="7658" y="16694"/>
                  <a:pt x="7799" y="16672"/>
                  <a:pt x="7938" y="16644"/>
                </a:cubicBezTo>
                <a:cubicBezTo>
                  <a:pt x="8008" y="16630"/>
                  <a:pt x="8027" y="16619"/>
                  <a:pt x="8086" y="16619"/>
                </a:cubicBezTo>
              </a:path>
              <a:path w="2828" h="2084">
                <a:moveTo>
                  <a:pt x="7590" y="16173"/>
                </a:moveTo>
                <a:cubicBezTo>
                  <a:pt x="7590" y="16239"/>
                  <a:pt x="7590" y="16305"/>
                  <a:pt x="7590" y="16371"/>
                </a:cubicBezTo>
                <a:cubicBezTo>
                  <a:pt x="7682" y="16356"/>
                  <a:pt x="7794" y="16316"/>
                  <a:pt x="7863" y="16247"/>
                </a:cubicBezTo>
                <a:cubicBezTo>
                  <a:pt x="7880" y="16222"/>
                  <a:pt x="7896" y="16198"/>
                  <a:pt x="7913" y="16173"/>
                </a:cubicBezTo>
              </a:path>
              <a:path w="2828" h="2084">
                <a:moveTo>
                  <a:pt x="7714" y="16024"/>
                </a:moveTo>
                <a:cubicBezTo>
                  <a:pt x="7694" y="16250"/>
                  <a:pt x="7701" y="16445"/>
                  <a:pt x="7714" y="16669"/>
                </a:cubicBezTo>
                <a:cubicBezTo>
                  <a:pt x="7714" y="16677"/>
                  <a:pt x="7714" y="16686"/>
                  <a:pt x="7714" y="166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87840" y="5867280"/>
            <a:ext cx="357120" cy="312840"/>
          </a:xfrm>
          <a:custGeom>
            <a:avLst/>
            <a:gdLst/>
            <a:ahLst/>
            <a:rect l="l" t="t" r="r" b="b"/>
            <a:pathLst>
              <a:path w="994" h="869">
                <a:moveTo>
                  <a:pt x="10567" y="16297"/>
                </a:moveTo>
                <a:cubicBezTo>
                  <a:pt x="10545" y="16359"/>
                  <a:pt x="10453" y="16496"/>
                  <a:pt x="10418" y="16570"/>
                </a:cubicBezTo>
                <a:cubicBezTo>
                  <a:pt x="10318" y="16779"/>
                  <a:pt x="10263" y="16886"/>
                  <a:pt x="10294" y="17090"/>
                </a:cubicBezTo>
                <a:cubicBezTo>
                  <a:pt x="10487" y="17064"/>
                  <a:pt x="10707" y="17032"/>
                  <a:pt x="10740" y="16793"/>
                </a:cubicBezTo>
                <a:cubicBezTo>
                  <a:pt x="10732" y="16785"/>
                  <a:pt x="10724" y="16776"/>
                  <a:pt x="10716" y="16768"/>
                </a:cubicBezTo>
                <a:cubicBezTo>
                  <a:pt x="10604" y="16794"/>
                  <a:pt x="10285" y="16952"/>
                  <a:pt x="10418" y="17140"/>
                </a:cubicBezTo>
                <a:cubicBezTo>
                  <a:pt x="10451" y="17148"/>
                  <a:pt x="10484" y="17157"/>
                  <a:pt x="10517" y="17165"/>
                </a:cubicBezTo>
              </a:path>
              <a:path w="994" h="869">
                <a:moveTo>
                  <a:pt x="10964" y="16446"/>
                </a:moveTo>
                <a:cubicBezTo>
                  <a:pt x="10811" y="16628"/>
                  <a:pt x="10775" y="16705"/>
                  <a:pt x="10815" y="16942"/>
                </a:cubicBezTo>
                <a:cubicBezTo>
                  <a:pt x="11000" y="16985"/>
                  <a:pt x="11169" y="16942"/>
                  <a:pt x="11237" y="16718"/>
                </a:cubicBezTo>
                <a:cubicBezTo>
                  <a:pt x="11296" y="16524"/>
                  <a:pt x="11098" y="16489"/>
                  <a:pt x="10964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03800" y="5796000"/>
            <a:ext cx="2054160" cy="490680"/>
          </a:xfrm>
          <a:custGeom>
            <a:avLst/>
            <a:gdLst/>
            <a:ahLst/>
            <a:rect l="l" t="t" r="r" b="b"/>
            <a:pathLst>
              <a:path w="5706" h="1365">
                <a:moveTo>
                  <a:pt x="11956" y="16917"/>
                </a:moveTo>
                <a:cubicBezTo>
                  <a:pt x="12091" y="16893"/>
                  <a:pt x="12216" y="16867"/>
                  <a:pt x="12353" y="16867"/>
                </a:cubicBezTo>
              </a:path>
              <a:path w="5706" h="1365">
                <a:moveTo>
                  <a:pt x="12030" y="17066"/>
                </a:moveTo>
                <a:cubicBezTo>
                  <a:pt x="12117" y="17079"/>
                  <a:pt x="12306" y="17079"/>
                  <a:pt x="12353" y="17115"/>
                </a:cubicBezTo>
              </a:path>
              <a:path w="5706" h="1365">
                <a:moveTo>
                  <a:pt x="13146" y="16545"/>
                </a:moveTo>
                <a:cubicBezTo>
                  <a:pt x="13115" y="16739"/>
                  <a:pt x="13021" y="16924"/>
                  <a:pt x="12973" y="17115"/>
                </a:cubicBezTo>
                <a:cubicBezTo>
                  <a:pt x="12951" y="17249"/>
                  <a:pt x="12931" y="17287"/>
                  <a:pt x="13022" y="17338"/>
                </a:cubicBezTo>
                <a:cubicBezTo>
                  <a:pt x="13263" y="17307"/>
                  <a:pt x="13403" y="17295"/>
                  <a:pt x="13419" y="17041"/>
                </a:cubicBezTo>
                <a:cubicBezTo>
                  <a:pt x="13386" y="17051"/>
                  <a:pt x="13025" y="17286"/>
                  <a:pt x="13146" y="17338"/>
                </a:cubicBezTo>
                <a:cubicBezTo>
                  <a:pt x="13188" y="17330"/>
                  <a:pt x="13229" y="17322"/>
                  <a:pt x="13271" y="17314"/>
                </a:cubicBezTo>
              </a:path>
              <a:path w="5706" h="1365">
                <a:moveTo>
                  <a:pt x="13891" y="16520"/>
                </a:moveTo>
                <a:cubicBezTo>
                  <a:pt x="13648" y="16762"/>
                  <a:pt x="13521" y="16885"/>
                  <a:pt x="13618" y="17214"/>
                </a:cubicBezTo>
                <a:cubicBezTo>
                  <a:pt x="13878" y="17187"/>
                  <a:pt x="14207" y="17125"/>
                  <a:pt x="14188" y="16768"/>
                </a:cubicBezTo>
                <a:cubicBezTo>
                  <a:pt x="14173" y="16484"/>
                  <a:pt x="13842" y="16683"/>
                  <a:pt x="13742" y="16718"/>
                </a:cubicBezTo>
              </a:path>
              <a:path w="5706" h="1365">
                <a:moveTo>
                  <a:pt x="12799" y="17388"/>
                </a:moveTo>
                <a:cubicBezTo>
                  <a:pt x="12791" y="17388"/>
                  <a:pt x="12782" y="17388"/>
                  <a:pt x="12774" y="17388"/>
                </a:cubicBezTo>
                <a:cubicBezTo>
                  <a:pt x="12822" y="17420"/>
                  <a:pt x="12799" y="17386"/>
                  <a:pt x="12799" y="17338"/>
                </a:cubicBezTo>
              </a:path>
              <a:path w="5706" h="1365">
                <a:moveTo>
                  <a:pt x="12551" y="16768"/>
                </a:moveTo>
                <a:cubicBezTo>
                  <a:pt x="12475" y="16989"/>
                  <a:pt x="12405" y="17211"/>
                  <a:pt x="12353" y="17438"/>
                </a:cubicBezTo>
                <a:cubicBezTo>
                  <a:pt x="12502" y="17492"/>
                  <a:pt x="12686" y="17405"/>
                  <a:pt x="12750" y="17239"/>
                </a:cubicBezTo>
                <a:cubicBezTo>
                  <a:pt x="12855" y="16970"/>
                  <a:pt x="12637" y="16843"/>
                  <a:pt x="12427" y="16842"/>
                </a:cubicBezTo>
              </a:path>
              <a:path w="5706" h="1365">
                <a:moveTo>
                  <a:pt x="14560" y="16867"/>
                </a:moveTo>
                <a:cubicBezTo>
                  <a:pt x="14701" y="16827"/>
                  <a:pt x="14863" y="16763"/>
                  <a:pt x="15007" y="16818"/>
                </a:cubicBezTo>
                <a:cubicBezTo>
                  <a:pt x="15007" y="16826"/>
                  <a:pt x="15007" y="16834"/>
                  <a:pt x="15007" y="16842"/>
                </a:cubicBezTo>
              </a:path>
              <a:path w="5706" h="1365">
                <a:moveTo>
                  <a:pt x="14784" y="16991"/>
                </a:moveTo>
                <a:cubicBezTo>
                  <a:pt x="14916" y="16972"/>
                  <a:pt x="15047" y="16952"/>
                  <a:pt x="15180" y="16942"/>
                </a:cubicBezTo>
              </a:path>
              <a:path w="5706" h="1365">
                <a:moveTo>
                  <a:pt x="15701" y="16321"/>
                </a:moveTo>
                <a:cubicBezTo>
                  <a:pt x="15643" y="16553"/>
                  <a:pt x="15489" y="16794"/>
                  <a:pt x="15503" y="17041"/>
                </a:cubicBezTo>
                <a:cubicBezTo>
                  <a:pt x="15522" y="17380"/>
                  <a:pt x="15986" y="16952"/>
                  <a:pt x="16049" y="16892"/>
                </a:cubicBezTo>
                <a:cubicBezTo>
                  <a:pt x="16049" y="16867"/>
                  <a:pt x="16049" y="16843"/>
                  <a:pt x="16049" y="16818"/>
                </a:cubicBezTo>
                <a:cubicBezTo>
                  <a:pt x="15841" y="16886"/>
                  <a:pt x="15600" y="16972"/>
                  <a:pt x="15850" y="17115"/>
                </a:cubicBezTo>
              </a:path>
              <a:path w="5706" h="1365">
                <a:moveTo>
                  <a:pt x="16396" y="16570"/>
                </a:moveTo>
                <a:cubicBezTo>
                  <a:pt x="16308" y="16805"/>
                  <a:pt x="16259" y="16828"/>
                  <a:pt x="16371" y="17041"/>
                </a:cubicBezTo>
                <a:cubicBezTo>
                  <a:pt x="16578" y="16963"/>
                  <a:pt x="16895" y="16757"/>
                  <a:pt x="16694" y="16470"/>
                </a:cubicBezTo>
                <a:cubicBezTo>
                  <a:pt x="16650" y="16408"/>
                  <a:pt x="16284" y="16421"/>
                  <a:pt x="16545" y="16421"/>
                </a:cubicBezTo>
              </a:path>
              <a:path w="5706" h="1365">
                <a:moveTo>
                  <a:pt x="17140" y="16297"/>
                </a:moveTo>
                <a:cubicBezTo>
                  <a:pt x="17119" y="16422"/>
                  <a:pt x="17103" y="16449"/>
                  <a:pt x="17140" y="16520"/>
                </a:cubicBezTo>
                <a:cubicBezTo>
                  <a:pt x="17351" y="16427"/>
                  <a:pt x="17338" y="16372"/>
                  <a:pt x="17338" y="16148"/>
                </a:cubicBezTo>
                <a:cubicBezTo>
                  <a:pt x="17338" y="16131"/>
                  <a:pt x="17338" y="16115"/>
                  <a:pt x="17338" y="16098"/>
                </a:cubicBezTo>
                <a:cubicBezTo>
                  <a:pt x="17527" y="16130"/>
                  <a:pt x="17733" y="16227"/>
                  <a:pt x="17661" y="16470"/>
                </a:cubicBezTo>
                <a:cubicBezTo>
                  <a:pt x="17589" y="16712"/>
                  <a:pt x="17314" y="16845"/>
                  <a:pt x="17190" y="170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ssica rolled a number cube 30 times and her results are shown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5 1 3 6 3 4 2 3 5 1 2 2 2 6 5 3 5 4 1 6 5 2 3 4 1 5 3 3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her results, what is the experimental probability that Jessica will roll an even number on her next ro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) 0.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) 0.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) 0.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) 0.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41840" y="394668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0393" y="10964"/>
                </a:moveTo>
                <a:cubicBezTo>
                  <a:pt x="10393" y="11080"/>
                  <a:pt x="10340" y="11323"/>
                  <a:pt x="10443" y="11410"/>
                </a:cubicBezTo>
                <a:cubicBezTo>
                  <a:pt x="10563" y="11511"/>
                  <a:pt x="10675" y="11300"/>
                  <a:pt x="10666" y="11237"/>
                </a:cubicBezTo>
                <a:cubicBezTo>
                  <a:pt x="10587" y="11331"/>
                  <a:pt x="10556" y="11346"/>
                  <a:pt x="10567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5120" y="4518000"/>
            <a:ext cx="7308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0294" y="12551"/>
                </a:moveTo>
                <a:cubicBezTo>
                  <a:pt x="10362" y="12574"/>
                  <a:pt x="10424" y="12627"/>
                  <a:pt x="10492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2120" y="4367160"/>
            <a:ext cx="741600" cy="973080"/>
          </a:xfrm>
          <a:custGeom>
            <a:avLst/>
            <a:gdLst/>
            <a:ahLst/>
            <a:rect l="l" t="t" r="r" b="b"/>
            <a:pathLst>
              <a:path w="2060" h="2705">
                <a:moveTo>
                  <a:pt x="10368" y="12129"/>
                </a:moveTo>
                <a:cubicBezTo>
                  <a:pt x="10376" y="12129"/>
                  <a:pt x="10385" y="12129"/>
                  <a:pt x="10393" y="12129"/>
                </a:cubicBezTo>
              </a:path>
              <a:path w="2060" h="2705">
                <a:moveTo>
                  <a:pt x="10765" y="12278"/>
                </a:moveTo>
                <a:cubicBezTo>
                  <a:pt x="10866" y="12243"/>
                  <a:pt x="10932" y="12217"/>
                  <a:pt x="11038" y="12204"/>
                </a:cubicBezTo>
              </a:path>
              <a:path w="2060" h="2705">
                <a:moveTo>
                  <a:pt x="10492" y="12427"/>
                </a:moveTo>
                <a:lnTo>
                  <a:pt x="10492" y="12427"/>
                </a:lnTo>
                <a:lnTo>
                  <a:pt x="10492" y="12427"/>
                </a:lnTo>
              </a:path>
              <a:path w="2060" h="2705">
                <a:moveTo>
                  <a:pt x="10492" y="12427"/>
                </a:moveTo>
                <a:lnTo>
                  <a:pt x="10492" y="12427"/>
                </a:lnTo>
              </a:path>
              <a:path w="2060" h="2705">
                <a:moveTo>
                  <a:pt x="10368" y="12874"/>
                </a:moveTo>
                <a:cubicBezTo>
                  <a:pt x="10393" y="12866"/>
                  <a:pt x="10418" y="12857"/>
                  <a:pt x="10443" y="12849"/>
                </a:cubicBezTo>
              </a:path>
              <a:path w="2060" h="2705">
                <a:moveTo>
                  <a:pt x="11509" y="14833"/>
                </a:moveTo>
                <a:cubicBezTo>
                  <a:pt x="11816" y="14756"/>
                  <a:pt x="12109" y="14701"/>
                  <a:pt x="12427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78080" y="4010040"/>
            <a:ext cx="795600" cy="650880"/>
          </a:xfrm>
          <a:custGeom>
            <a:avLst/>
            <a:gdLst/>
            <a:ahLst/>
            <a:rect l="l" t="t" r="r" b="b"/>
            <a:pathLst>
              <a:path w="2209" h="1812">
                <a:moveTo>
                  <a:pt x="8905" y="11187"/>
                </a:moveTo>
                <a:cubicBezTo>
                  <a:pt x="8914" y="11414"/>
                  <a:pt x="8905" y="11659"/>
                  <a:pt x="8954" y="11881"/>
                </a:cubicBezTo>
                <a:cubicBezTo>
                  <a:pt x="8954" y="11865"/>
                  <a:pt x="8954" y="11848"/>
                  <a:pt x="8954" y="11832"/>
                </a:cubicBezTo>
              </a:path>
              <a:path w="2209" h="1812">
                <a:moveTo>
                  <a:pt x="9128" y="11187"/>
                </a:moveTo>
                <a:cubicBezTo>
                  <a:pt x="9278" y="11153"/>
                  <a:pt x="9516" y="11066"/>
                  <a:pt x="9475" y="11336"/>
                </a:cubicBezTo>
                <a:cubicBezTo>
                  <a:pt x="9451" y="11497"/>
                  <a:pt x="9350" y="11615"/>
                  <a:pt x="9252" y="11733"/>
                </a:cubicBezTo>
                <a:cubicBezTo>
                  <a:pt x="9418" y="11714"/>
                  <a:pt x="9583" y="11682"/>
                  <a:pt x="9748" y="11658"/>
                </a:cubicBezTo>
                <a:cubicBezTo>
                  <a:pt x="9773" y="11658"/>
                  <a:pt x="9781" y="11658"/>
                  <a:pt x="9748" y="11658"/>
                </a:cubicBezTo>
              </a:path>
              <a:path w="2209" h="1812">
                <a:moveTo>
                  <a:pt x="8830" y="12080"/>
                </a:moveTo>
                <a:cubicBezTo>
                  <a:pt x="9160" y="12016"/>
                  <a:pt x="9489" y="11961"/>
                  <a:pt x="9823" y="11931"/>
                </a:cubicBezTo>
              </a:path>
              <a:path w="2209" h="1812">
                <a:moveTo>
                  <a:pt x="8880" y="12427"/>
                </a:moveTo>
                <a:cubicBezTo>
                  <a:pt x="8941" y="12401"/>
                  <a:pt x="9310" y="12226"/>
                  <a:pt x="9277" y="12402"/>
                </a:cubicBezTo>
                <a:cubicBezTo>
                  <a:pt x="9254" y="12526"/>
                  <a:pt x="9150" y="12556"/>
                  <a:pt x="9054" y="12601"/>
                </a:cubicBezTo>
                <a:cubicBezTo>
                  <a:pt x="9113" y="12594"/>
                  <a:pt x="9389" y="12534"/>
                  <a:pt x="9376" y="12650"/>
                </a:cubicBezTo>
                <a:cubicBezTo>
                  <a:pt x="9361" y="12784"/>
                  <a:pt x="8901" y="13012"/>
                  <a:pt x="8880" y="12874"/>
                </a:cubicBezTo>
                <a:cubicBezTo>
                  <a:pt x="8905" y="12833"/>
                  <a:pt x="8929" y="12791"/>
                  <a:pt x="8954" y="12750"/>
                </a:cubicBezTo>
              </a:path>
              <a:path w="2209" h="1812">
                <a:moveTo>
                  <a:pt x="9599" y="12427"/>
                </a:moveTo>
                <a:cubicBezTo>
                  <a:pt x="9551" y="12613"/>
                  <a:pt x="9534" y="12710"/>
                  <a:pt x="9550" y="12898"/>
                </a:cubicBezTo>
                <a:cubicBezTo>
                  <a:pt x="9725" y="12932"/>
                  <a:pt x="10037" y="12924"/>
                  <a:pt x="9947" y="12626"/>
                </a:cubicBezTo>
                <a:cubicBezTo>
                  <a:pt x="9919" y="12535"/>
                  <a:pt x="9798" y="12459"/>
                  <a:pt x="9723" y="12427"/>
                </a:cubicBezTo>
              </a:path>
              <a:path w="2209" h="1812">
                <a:moveTo>
                  <a:pt x="10393" y="12129"/>
                </a:moveTo>
                <a:cubicBezTo>
                  <a:pt x="10420" y="12051"/>
                  <a:pt x="10695" y="12035"/>
                  <a:pt x="10765" y="12030"/>
                </a:cubicBezTo>
                <a:cubicBezTo>
                  <a:pt x="10964" y="12015"/>
                  <a:pt x="11045" y="11973"/>
                  <a:pt x="10914" y="12105"/>
                </a:cubicBezTo>
              </a:path>
              <a:path w="2209" h="1812">
                <a:moveTo>
                  <a:pt x="9922" y="11410"/>
                </a:moveTo>
                <a:cubicBezTo>
                  <a:pt x="9996" y="11386"/>
                  <a:pt x="10067" y="11333"/>
                  <a:pt x="10145" y="11311"/>
                </a:cubicBezTo>
              </a:path>
              <a:path w="2209" h="1812">
                <a:moveTo>
                  <a:pt x="10740" y="12626"/>
                </a:moveTo>
                <a:cubicBezTo>
                  <a:pt x="10729" y="12696"/>
                  <a:pt x="10676" y="12826"/>
                  <a:pt x="10765" y="12874"/>
                </a:cubicBezTo>
                <a:cubicBezTo>
                  <a:pt x="10891" y="12942"/>
                  <a:pt x="10953" y="12846"/>
                  <a:pt x="11038" y="12774"/>
                </a:cubicBezTo>
                <a:cubicBezTo>
                  <a:pt x="10945" y="12795"/>
                  <a:pt x="10821" y="12838"/>
                  <a:pt x="10964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8880" y="5384880"/>
            <a:ext cx="330120" cy="179280"/>
          </a:xfrm>
          <a:custGeom>
            <a:avLst/>
            <a:gdLst/>
            <a:ahLst/>
            <a:rect l="l" t="t" r="r" b="b"/>
            <a:pathLst>
              <a:path w="918" h="497">
                <a:moveTo>
                  <a:pt x="12005" y="15032"/>
                </a:moveTo>
                <a:cubicBezTo>
                  <a:pt x="11893" y="15173"/>
                  <a:pt x="11879" y="15227"/>
                  <a:pt x="11857" y="15404"/>
                </a:cubicBezTo>
                <a:cubicBezTo>
                  <a:pt x="12002" y="15452"/>
                  <a:pt x="12259" y="15430"/>
                  <a:pt x="12229" y="15180"/>
                </a:cubicBezTo>
                <a:cubicBezTo>
                  <a:pt x="12210" y="15022"/>
                  <a:pt x="12064" y="15072"/>
                  <a:pt x="12030" y="15106"/>
                </a:cubicBezTo>
              </a:path>
              <a:path w="918" h="497">
                <a:moveTo>
                  <a:pt x="12601" y="15032"/>
                </a:moveTo>
                <a:cubicBezTo>
                  <a:pt x="12510" y="15152"/>
                  <a:pt x="12475" y="15230"/>
                  <a:pt x="12452" y="15379"/>
                </a:cubicBezTo>
                <a:cubicBezTo>
                  <a:pt x="12576" y="15385"/>
                  <a:pt x="12916" y="15339"/>
                  <a:pt x="12750" y="15106"/>
                </a:cubicBezTo>
                <a:cubicBezTo>
                  <a:pt x="12600" y="15016"/>
                  <a:pt x="12529" y="14982"/>
                  <a:pt x="12402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0880" y="3956040"/>
            <a:ext cx="304920" cy="635040"/>
          </a:xfrm>
          <a:custGeom>
            <a:avLst/>
            <a:gdLst/>
            <a:ahLst/>
            <a:rect l="l" t="t" r="r" b="b"/>
            <a:pathLst>
              <a:path w="844" h="1763">
                <a:moveTo>
                  <a:pt x="11559" y="11112"/>
                </a:moveTo>
                <a:cubicBezTo>
                  <a:pt x="11664" y="11039"/>
                  <a:pt x="11712" y="11011"/>
                  <a:pt x="11832" y="10988"/>
                </a:cubicBezTo>
                <a:cubicBezTo>
                  <a:pt x="11883" y="11261"/>
                  <a:pt x="11809" y="11464"/>
                  <a:pt x="11683" y="11708"/>
                </a:cubicBezTo>
                <a:cubicBezTo>
                  <a:pt x="11639" y="11793"/>
                  <a:pt x="11632" y="11839"/>
                  <a:pt x="11559" y="11857"/>
                </a:cubicBezTo>
                <a:cubicBezTo>
                  <a:pt x="11559" y="11763"/>
                  <a:pt x="11535" y="11679"/>
                  <a:pt x="11658" y="11658"/>
                </a:cubicBezTo>
                <a:cubicBezTo>
                  <a:pt x="11775" y="11638"/>
                  <a:pt x="11910" y="11658"/>
                  <a:pt x="12030" y="11658"/>
                </a:cubicBezTo>
              </a:path>
              <a:path w="844" h="1763">
                <a:moveTo>
                  <a:pt x="11584" y="11981"/>
                </a:moveTo>
                <a:cubicBezTo>
                  <a:pt x="11788" y="11867"/>
                  <a:pt x="12024" y="11890"/>
                  <a:pt x="12254" y="11857"/>
                </a:cubicBezTo>
                <a:cubicBezTo>
                  <a:pt x="12345" y="11839"/>
                  <a:pt x="12352" y="11830"/>
                  <a:pt x="12402" y="11832"/>
                </a:cubicBezTo>
              </a:path>
              <a:path w="844" h="1763">
                <a:moveTo>
                  <a:pt x="12030" y="12179"/>
                </a:moveTo>
                <a:cubicBezTo>
                  <a:pt x="11929" y="12204"/>
                  <a:pt x="11840" y="12246"/>
                  <a:pt x="11733" y="12254"/>
                </a:cubicBezTo>
                <a:cubicBezTo>
                  <a:pt x="11686" y="12258"/>
                  <a:pt x="11665" y="12408"/>
                  <a:pt x="11658" y="12452"/>
                </a:cubicBezTo>
                <a:cubicBezTo>
                  <a:pt x="11658" y="12469"/>
                  <a:pt x="11658" y="12485"/>
                  <a:pt x="11658" y="12502"/>
                </a:cubicBezTo>
                <a:cubicBezTo>
                  <a:pt x="11870" y="12468"/>
                  <a:pt x="12002" y="12466"/>
                  <a:pt x="12179" y="12576"/>
                </a:cubicBezTo>
                <a:cubicBezTo>
                  <a:pt x="12125" y="12645"/>
                  <a:pt x="11884" y="12880"/>
                  <a:pt x="11782" y="12700"/>
                </a:cubicBezTo>
                <a:cubicBezTo>
                  <a:pt x="11782" y="12659"/>
                  <a:pt x="11782" y="12617"/>
                  <a:pt x="11782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44920" y="5180040"/>
            <a:ext cx="2527200" cy="411120"/>
          </a:xfrm>
          <a:custGeom>
            <a:avLst/>
            <a:gdLst/>
            <a:ahLst/>
            <a:rect l="l" t="t" r="r" b="b"/>
            <a:pathLst>
              <a:path w="7021" h="1142">
                <a:moveTo>
                  <a:pt x="10666" y="15056"/>
                </a:moveTo>
                <a:cubicBezTo>
                  <a:pt x="10788" y="15009"/>
                  <a:pt x="11037" y="14872"/>
                  <a:pt x="10914" y="15056"/>
                </a:cubicBezTo>
              </a:path>
              <a:path w="7021" h="1142">
                <a:moveTo>
                  <a:pt x="10716" y="15280"/>
                </a:moveTo>
                <a:cubicBezTo>
                  <a:pt x="10889" y="15230"/>
                  <a:pt x="10947" y="15213"/>
                  <a:pt x="11063" y="15180"/>
                </a:cubicBezTo>
              </a:path>
              <a:path w="7021" h="1142">
                <a:moveTo>
                  <a:pt x="11063" y="15180"/>
                </a:moveTo>
                <a:lnTo>
                  <a:pt x="11063" y="15180"/>
                </a:lnTo>
              </a:path>
              <a:path w="7021" h="1142">
                <a:moveTo>
                  <a:pt x="11559" y="15007"/>
                </a:moveTo>
                <a:cubicBezTo>
                  <a:pt x="11585" y="15175"/>
                  <a:pt x="11577" y="15385"/>
                  <a:pt x="11609" y="15528"/>
                </a:cubicBezTo>
              </a:path>
              <a:path w="7021" h="1142">
                <a:moveTo>
                  <a:pt x="9847" y="14858"/>
                </a:moveTo>
                <a:cubicBezTo>
                  <a:pt x="9904" y="14921"/>
                  <a:pt x="9944" y="14992"/>
                  <a:pt x="9996" y="15056"/>
                </a:cubicBezTo>
              </a:path>
              <a:path w="7021" h="1142">
                <a:moveTo>
                  <a:pt x="12923" y="14808"/>
                </a:moveTo>
                <a:cubicBezTo>
                  <a:pt x="13089" y="14732"/>
                  <a:pt x="13214" y="14695"/>
                  <a:pt x="13395" y="14684"/>
                </a:cubicBezTo>
              </a:path>
              <a:path w="7021" h="1142">
                <a:moveTo>
                  <a:pt x="13072" y="14982"/>
                </a:moveTo>
                <a:cubicBezTo>
                  <a:pt x="13238" y="14926"/>
                  <a:pt x="13305" y="14903"/>
                  <a:pt x="13419" y="14858"/>
                </a:cubicBezTo>
              </a:path>
              <a:path w="7021" h="1142">
                <a:moveTo>
                  <a:pt x="13419" y="14858"/>
                </a:moveTo>
                <a:lnTo>
                  <a:pt x="13419" y="14858"/>
                </a:lnTo>
              </a:path>
              <a:path w="7021" h="1142">
                <a:moveTo>
                  <a:pt x="14784" y="14709"/>
                </a:moveTo>
                <a:cubicBezTo>
                  <a:pt x="14800" y="14709"/>
                  <a:pt x="14817" y="14709"/>
                  <a:pt x="14833" y="14709"/>
                </a:cubicBezTo>
              </a:path>
              <a:path w="7021" h="1142">
                <a:moveTo>
                  <a:pt x="14833" y="14709"/>
                </a:moveTo>
                <a:lnTo>
                  <a:pt x="14833" y="14709"/>
                </a:lnTo>
              </a:path>
              <a:path w="7021" h="1142">
                <a:moveTo>
                  <a:pt x="16594" y="14461"/>
                </a:moveTo>
                <a:cubicBezTo>
                  <a:pt x="16702" y="14424"/>
                  <a:pt x="16767" y="14387"/>
                  <a:pt x="16867" y="14412"/>
                </a:cubicBezTo>
              </a:path>
              <a:path w="7021" h="1142">
                <a:moveTo>
                  <a:pt x="16495" y="14684"/>
                </a:moveTo>
                <a:cubicBezTo>
                  <a:pt x="16647" y="14655"/>
                  <a:pt x="16716" y="14636"/>
                  <a:pt x="16818" y="14585"/>
                </a:cubicBezTo>
              </a:path>
              <a:path w="7021" h="1142">
                <a:moveTo>
                  <a:pt x="16818" y="14585"/>
                </a:moveTo>
                <a:lnTo>
                  <a:pt x="16818" y="145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5197320"/>
            <a:ext cx="446040" cy="473400"/>
          </a:xfrm>
          <a:custGeom>
            <a:avLst/>
            <a:gdLst/>
            <a:ahLst/>
            <a:rect l="l" t="t" r="r" b="b"/>
            <a:pathLst>
              <a:path w="1241" h="1316">
                <a:moveTo>
                  <a:pt x="9525" y="15478"/>
                </a:moveTo>
                <a:cubicBezTo>
                  <a:pt x="9525" y="15392"/>
                  <a:pt x="9602" y="15400"/>
                  <a:pt x="9674" y="15354"/>
                </a:cubicBezTo>
                <a:cubicBezTo>
                  <a:pt x="9696" y="15332"/>
                  <a:pt x="9701" y="15323"/>
                  <a:pt x="9723" y="15329"/>
                </a:cubicBezTo>
              </a:path>
              <a:path w="1241" h="1316">
                <a:moveTo>
                  <a:pt x="10046" y="14833"/>
                </a:moveTo>
                <a:cubicBezTo>
                  <a:pt x="9992" y="14950"/>
                  <a:pt x="9941" y="15056"/>
                  <a:pt x="9922" y="15180"/>
                </a:cubicBezTo>
              </a:path>
              <a:path w="1241" h="1316">
                <a:moveTo>
                  <a:pt x="10120" y="15379"/>
                </a:moveTo>
                <a:cubicBezTo>
                  <a:pt x="10180" y="15379"/>
                  <a:pt x="10401" y="15348"/>
                  <a:pt x="10368" y="15478"/>
                </a:cubicBezTo>
                <a:cubicBezTo>
                  <a:pt x="10298" y="15596"/>
                  <a:pt x="10277" y="15632"/>
                  <a:pt x="10220" y="15701"/>
                </a:cubicBezTo>
                <a:cubicBezTo>
                  <a:pt x="10134" y="15873"/>
                  <a:pt x="10448" y="15662"/>
                  <a:pt x="10468" y="15652"/>
                </a:cubicBezTo>
              </a:path>
              <a:path w="1241" h="1316">
                <a:moveTo>
                  <a:pt x="10641" y="15453"/>
                </a:moveTo>
                <a:cubicBezTo>
                  <a:pt x="10577" y="15543"/>
                  <a:pt x="10584" y="15554"/>
                  <a:pt x="10592" y="15652"/>
                </a:cubicBezTo>
                <a:cubicBezTo>
                  <a:pt x="10662" y="15642"/>
                  <a:pt x="10848" y="15594"/>
                  <a:pt x="10740" y="15478"/>
                </a:cubicBezTo>
                <a:cubicBezTo>
                  <a:pt x="10663" y="15452"/>
                  <a:pt x="10635" y="15442"/>
                  <a:pt x="10592" y="15404"/>
                </a:cubicBezTo>
              </a:path>
              <a:path w="1241" h="1316">
                <a:moveTo>
                  <a:pt x="10195" y="14957"/>
                </a:moveTo>
                <a:cubicBezTo>
                  <a:pt x="10313" y="14863"/>
                  <a:pt x="10422" y="14847"/>
                  <a:pt x="10567" y="14808"/>
                </a:cubicBezTo>
              </a:path>
              <a:path w="1241" h="1316">
                <a:moveTo>
                  <a:pt x="10071" y="14536"/>
                </a:moveTo>
                <a:cubicBezTo>
                  <a:pt x="10127" y="14470"/>
                  <a:pt x="10153" y="14461"/>
                  <a:pt x="10244" y="14461"/>
                </a:cubicBezTo>
                <a:cubicBezTo>
                  <a:pt x="10210" y="14552"/>
                  <a:pt x="10172" y="14626"/>
                  <a:pt x="10120" y="14709"/>
                </a:cubicBezTo>
                <a:cubicBezTo>
                  <a:pt x="10240" y="14697"/>
                  <a:pt x="10282" y="14668"/>
                  <a:pt x="10393" y="14610"/>
                </a:cubicBezTo>
              </a:path>
              <a:path w="1241" h="1316">
                <a:moveTo>
                  <a:pt x="10393" y="14486"/>
                </a:moveTo>
                <a:cubicBezTo>
                  <a:pt x="10393" y="14519"/>
                  <a:pt x="10393" y="14552"/>
                  <a:pt x="10393" y="14585"/>
                </a:cubicBezTo>
                <a:cubicBezTo>
                  <a:pt x="10449" y="14552"/>
                  <a:pt x="10534" y="14498"/>
                  <a:pt x="10492" y="14461"/>
                </a:cubicBezTo>
                <a:cubicBezTo>
                  <a:pt x="10484" y="14453"/>
                  <a:pt x="10476" y="14444"/>
                  <a:pt x="10468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6240" y="5045040"/>
            <a:ext cx="241560" cy="189000"/>
          </a:xfrm>
          <a:custGeom>
            <a:avLst/>
            <a:gdLst/>
            <a:ahLst/>
            <a:rect l="l" t="t" r="r" b="b"/>
            <a:pathLst>
              <a:path w="671" h="522">
                <a:moveTo>
                  <a:pt x="11435" y="14114"/>
                </a:moveTo>
                <a:cubicBezTo>
                  <a:pt x="11435" y="14189"/>
                  <a:pt x="11454" y="14261"/>
                  <a:pt x="11460" y="14337"/>
                </a:cubicBezTo>
                <a:cubicBezTo>
                  <a:pt x="11658" y="14365"/>
                  <a:pt x="11649" y="14371"/>
                  <a:pt x="11757" y="14213"/>
                </a:cubicBezTo>
              </a:path>
              <a:path w="671" h="522">
                <a:moveTo>
                  <a:pt x="11708" y="14015"/>
                </a:moveTo>
                <a:cubicBezTo>
                  <a:pt x="11703" y="14059"/>
                  <a:pt x="11682" y="14536"/>
                  <a:pt x="11683" y="14536"/>
                </a:cubicBezTo>
                <a:cubicBezTo>
                  <a:pt x="11716" y="14511"/>
                  <a:pt x="11749" y="14486"/>
                  <a:pt x="11782" y="14461"/>
                </a:cubicBezTo>
              </a:path>
              <a:path w="671" h="522">
                <a:moveTo>
                  <a:pt x="11931" y="14015"/>
                </a:moveTo>
                <a:cubicBezTo>
                  <a:pt x="11855" y="14198"/>
                  <a:pt x="11831" y="14229"/>
                  <a:pt x="11881" y="14412"/>
                </a:cubicBezTo>
                <a:cubicBezTo>
                  <a:pt x="12029" y="14402"/>
                  <a:pt x="12234" y="14250"/>
                  <a:pt x="12055" y="14064"/>
                </a:cubicBezTo>
                <a:cubicBezTo>
                  <a:pt x="11981" y="14045"/>
                  <a:pt x="11974" y="14037"/>
                  <a:pt x="11931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81760" y="5170320"/>
            <a:ext cx="15228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4312" y="14387"/>
                </a:moveTo>
                <a:cubicBezTo>
                  <a:pt x="14160" y="14622"/>
                  <a:pt x="14117" y="14626"/>
                  <a:pt x="14163" y="14883"/>
                </a:cubicBezTo>
                <a:cubicBezTo>
                  <a:pt x="14400" y="14845"/>
                  <a:pt x="14666" y="14744"/>
                  <a:pt x="14486" y="14436"/>
                </a:cubicBezTo>
                <a:cubicBezTo>
                  <a:pt x="14456" y="14386"/>
                  <a:pt x="14206" y="14291"/>
                  <a:pt x="14486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9800" y="5081760"/>
            <a:ext cx="331560" cy="249120"/>
          </a:xfrm>
          <a:custGeom>
            <a:avLst/>
            <a:gdLst/>
            <a:ahLst/>
            <a:rect l="l" t="t" r="r" b="b"/>
            <a:pathLst>
              <a:path w="919" h="695">
                <a:moveTo>
                  <a:pt x="15081" y="14263"/>
                </a:moveTo>
                <a:cubicBezTo>
                  <a:pt x="15071" y="14373"/>
                  <a:pt x="15018" y="14582"/>
                  <a:pt x="15230" y="14536"/>
                </a:cubicBezTo>
                <a:cubicBezTo>
                  <a:pt x="15358" y="14459"/>
                  <a:pt x="15402" y="14430"/>
                  <a:pt x="15453" y="14337"/>
                </a:cubicBezTo>
              </a:path>
              <a:path w="919" h="695">
                <a:moveTo>
                  <a:pt x="15429" y="14114"/>
                </a:moveTo>
                <a:cubicBezTo>
                  <a:pt x="15421" y="14169"/>
                  <a:pt x="15325" y="14813"/>
                  <a:pt x="15354" y="14808"/>
                </a:cubicBezTo>
                <a:cubicBezTo>
                  <a:pt x="15412" y="14775"/>
                  <a:pt x="15470" y="14742"/>
                  <a:pt x="15528" y="14709"/>
                </a:cubicBezTo>
              </a:path>
              <a:path w="919" h="695">
                <a:moveTo>
                  <a:pt x="15701" y="14288"/>
                </a:moveTo>
                <a:cubicBezTo>
                  <a:pt x="15577" y="14529"/>
                  <a:pt x="15529" y="14527"/>
                  <a:pt x="15627" y="14759"/>
                </a:cubicBezTo>
                <a:cubicBezTo>
                  <a:pt x="15848" y="14691"/>
                  <a:pt x="16099" y="14568"/>
                  <a:pt x="15900" y="14288"/>
                </a:cubicBezTo>
                <a:cubicBezTo>
                  <a:pt x="15850" y="14218"/>
                  <a:pt x="15726" y="14188"/>
                  <a:pt x="15726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05680" y="4929120"/>
            <a:ext cx="671400" cy="366840"/>
          </a:xfrm>
          <a:custGeom>
            <a:avLst/>
            <a:gdLst/>
            <a:ahLst/>
            <a:rect l="l" t="t" r="r" b="b"/>
            <a:pathLst>
              <a:path w="1862" h="1018">
                <a:moveTo>
                  <a:pt x="17264" y="14163"/>
                </a:moveTo>
                <a:cubicBezTo>
                  <a:pt x="17258" y="14282"/>
                  <a:pt x="17173" y="14491"/>
                  <a:pt x="17363" y="14461"/>
                </a:cubicBezTo>
                <a:cubicBezTo>
                  <a:pt x="17413" y="14445"/>
                  <a:pt x="17462" y="14428"/>
                  <a:pt x="17512" y="14412"/>
                </a:cubicBezTo>
              </a:path>
              <a:path w="1862" h="1018">
                <a:moveTo>
                  <a:pt x="17611" y="14064"/>
                </a:moveTo>
                <a:cubicBezTo>
                  <a:pt x="17579" y="14284"/>
                  <a:pt x="17242" y="14679"/>
                  <a:pt x="17462" y="14709"/>
                </a:cubicBezTo>
                <a:cubicBezTo>
                  <a:pt x="17495" y="14693"/>
                  <a:pt x="17529" y="14676"/>
                  <a:pt x="17562" y="14660"/>
                </a:cubicBezTo>
              </a:path>
              <a:path w="1862" h="1018">
                <a:moveTo>
                  <a:pt x="17909" y="14089"/>
                </a:moveTo>
                <a:cubicBezTo>
                  <a:pt x="17760" y="14310"/>
                  <a:pt x="17719" y="14399"/>
                  <a:pt x="17711" y="14660"/>
                </a:cubicBezTo>
                <a:cubicBezTo>
                  <a:pt x="17985" y="14697"/>
                  <a:pt x="18187" y="14548"/>
                  <a:pt x="18058" y="14213"/>
                </a:cubicBezTo>
                <a:cubicBezTo>
                  <a:pt x="17964" y="13969"/>
                  <a:pt x="17768" y="14109"/>
                  <a:pt x="17983" y="13965"/>
                </a:cubicBezTo>
              </a:path>
              <a:path w="1862" h="1018">
                <a:moveTo>
                  <a:pt x="18479" y="13767"/>
                </a:moveTo>
                <a:cubicBezTo>
                  <a:pt x="18333" y="13862"/>
                  <a:pt x="18313" y="13829"/>
                  <a:pt x="18281" y="13990"/>
                </a:cubicBezTo>
                <a:cubicBezTo>
                  <a:pt x="18446" y="13935"/>
                  <a:pt x="18393" y="13835"/>
                  <a:pt x="18504" y="13717"/>
                </a:cubicBezTo>
                <a:cubicBezTo>
                  <a:pt x="18521" y="13709"/>
                  <a:pt x="18537" y="13700"/>
                  <a:pt x="18554" y="13692"/>
                </a:cubicBezTo>
                <a:cubicBezTo>
                  <a:pt x="18652" y="13972"/>
                  <a:pt x="18579" y="14108"/>
                  <a:pt x="18579" y="14387"/>
                </a:cubicBezTo>
                <a:cubicBezTo>
                  <a:pt x="18587" y="14395"/>
                  <a:pt x="18596" y="14404"/>
                  <a:pt x="18604" y="14412"/>
                </a:cubicBezTo>
              </a:path>
              <a:path w="1862" h="1018">
                <a:moveTo>
                  <a:pt x="18876" y="14163"/>
                </a:moveTo>
                <a:cubicBezTo>
                  <a:pt x="18833" y="14295"/>
                  <a:pt x="18812" y="14327"/>
                  <a:pt x="18852" y="14412"/>
                </a:cubicBezTo>
                <a:cubicBezTo>
                  <a:pt x="18975" y="14419"/>
                  <a:pt x="19277" y="14258"/>
                  <a:pt x="19050" y="14114"/>
                </a:cubicBezTo>
                <a:cubicBezTo>
                  <a:pt x="18976" y="14097"/>
                  <a:pt x="18901" y="14081"/>
                  <a:pt x="18827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16200" y="3946680"/>
            <a:ext cx="563760" cy="358560"/>
          </a:xfrm>
          <a:custGeom>
            <a:avLst/>
            <a:gdLst/>
            <a:ahLst/>
            <a:rect l="l" t="t" r="r" b="b"/>
            <a:pathLst>
              <a:path w="1564" h="993">
                <a:moveTo>
                  <a:pt x="10046" y="10964"/>
                </a:moveTo>
                <a:cubicBezTo>
                  <a:pt x="10054" y="10980"/>
                  <a:pt x="10063" y="10997"/>
                  <a:pt x="10071" y="11013"/>
                </a:cubicBezTo>
              </a:path>
              <a:path w="1564" h="993">
                <a:moveTo>
                  <a:pt x="10120" y="11509"/>
                </a:moveTo>
                <a:cubicBezTo>
                  <a:pt x="10120" y="11556"/>
                  <a:pt x="10138" y="11552"/>
                  <a:pt x="10195" y="11485"/>
                </a:cubicBezTo>
              </a:path>
              <a:path w="1564" h="993">
                <a:moveTo>
                  <a:pt x="10195" y="11485"/>
                </a:moveTo>
                <a:lnTo>
                  <a:pt x="10195" y="11485"/>
                </a:lnTo>
              </a:path>
              <a:path w="1564" h="993">
                <a:moveTo>
                  <a:pt x="11509" y="11956"/>
                </a:moveTo>
                <a:cubicBezTo>
                  <a:pt x="11561" y="11956"/>
                  <a:pt x="11579" y="11955"/>
                  <a:pt x="116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2080" y="5106960"/>
            <a:ext cx="285840" cy="635040"/>
          </a:xfrm>
          <a:custGeom>
            <a:avLst/>
            <a:gdLst/>
            <a:ahLst/>
            <a:rect l="l" t="t" r="r" b="b"/>
            <a:pathLst>
              <a:path w="795" h="1762">
                <a:moveTo>
                  <a:pt x="9203" y="14362"/>
                </a:moveTo>
                <a:cubicBezTo>
                  <a:pt x="9263" y="14259"/>
                  <a:pt x="9490" y="14038"/>
                  <a:pt x="9550" y="14312"/>
                </a:cubicBezTo>
                <a:cubicBezTo>
                  <a:pt x="9619" y="14624"/>
                  <a:pt x="9337" y="14805"/>
                  <a:pt x="9103" y="14858"/>
                </a:cubicBezTo>
                <a:cubicBezTo>
                  <a:pt x="9104" y="14644"/>
                  <a:pt x="9220" y="14637"/>
                  <a:pt x="9426" y="14709"/>
                </a:cubicBezTo>
                <a:cubicBezTo>
                  <a:pt x="9516" y="14740"/>
                  <a:pt x="9551" y="14766"/>
                  <a:pt x="9599" y="14833"/>
                </a:cubicBezTo>
              </a:path>
              <a:path w="795" h="1762">
                <a:moveTo>
                  <a:pt x="8979" y="15230"/>
                </a:moveTo>
                <a:cubicBezTo>
                  <a:pt x="9217" y="15165"/>
                  <a:pt x="9453" y="15086"/>
                  <a:pt x="9699" y="15056"/>
                </a:cubicBezTo>
                <a:cubicBezTo>
                  <a:pt x="9757" y="15056"/>
                  <a:pt x="9798" y="15056"/>
                  <a:pt x="9748" y="15056"/>
                </a:cubicBezTo>
              </a:path>
              <a:path w="795" h="1762">
                <a:moveTo>
                  <a:pt x="9500" y="15404"/>
                </a:moveTo>
                <a:cubicBezTo>
                  <a:pt x="9413" y="15419"/>
                  <a:pt x="9355" y="15452"/>
                  <a:pt x="9302" y="15528"/>
                </a:cubicBezTo>
                <a:cubicBezTo>
                  <a:pt x="9294" y="15544"/>
                  <a:pt x="9285" y="15561"/>
                  <a:pt x="9277" y="15577"/>
                </a:cubicBezTo>
                <a:cubicBezTo>
                  <a:pt x="9408" y="15630"/>
                  <a:pt x="9672" y="15620"/>
                  <a:pt x="9699" y="15801"/>
                </a:cubicBezTo>
                <a:cubicBezTo>
                  <a:pt x="9728" y="16000"/>
                  <a:pt x="9423" y="15982"/>
                  <a:pt x="9327" y="15900"/>
                </a:cubicBezTo>
                <a:cubicBezTo>
                  <a:pt x="9302" y="15859"/>
                  <a:pt x="9277" y="15817"/>
                  <a:pt x="9252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" y="4643280"/>
            <a:ext cx="1160280" cy="420840"/>
          </a:xfrm>
          <a:custGeom>
            <a:avLst/>
            <a:gdLst/>
            <a:ahLst/>
            <a:rect l="l" t="t" r="r" b="b"/>
            <a:pathLst>
              <a:path w="3226" h="1167">
                <a:moveTo>
                  <a:pt x="1389" y="14039"/>
                </a:moveTo>
                <a:cubicBezTo>
                  <a:pt x="1615" y="14010"/>
                  <a:pt x="1852" y="14068"/>
                  <a:pt x="2084" y="14064"/>
                </a:cubicBezTo>
                <a:cubicBezTo>
                  <a:pt x="2505" y="14056"/>
                  <a:pt x="2934" y="14005"/>
                  <a:pt x="3349" y="13940"/>
                </a:cubicBezTo>
                <a:cubicBezTo>
                  <a:pt x="3669" y="13890"/>
                  <a:pt x="3991" y="13822"/>
                  <a:pt x="4266" y="13643"/>
                </a:cubicBezTo>
                <a:cubicBezTo>
                  <a:pt x="4419" y="13543"/>
                  <a:pt x="4441" y="13457"/>
                  <a:pt x="4490" y="13295"/>
                </a:cubicBezTo>
                <a:cubicBezTo>
                  <a:pt x="4384" y="13014"/>
                  <a:pt x="4139" y="12968"/>
                  <a:pt x="3845" y="12923"/>
                </a:cubicBezTo>
                <a:cubicBezTo>
                  <a:pt x="3325" y="12843"/>
                  <a:pt x="2691" y="12876"/>
                  <a:pt x="2183" y="13022"/>
                </a:cubicBezTo>
                <a:cubicBezTo>
                  <a:pt x="1867" y="13113"/>
                  <a:pt x="1544" y="13392"/>
                  <a:pt x="1339" y="13643"/>
                </a:cubicBezTo>
                <a:cubicBezTo>
                  <a:pt x="1099" y="13937"/>
                  <a:pt x="1714" y="14013"/>
                  <a:pt x="1885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demcgra</cp:lastModifiedBy>
  <cp:lastPrinted>2010-03-04T04:54:40Z</cp:lastPrinted>
  <dcterms:modified xsi:type="dcterms:W3CDTF">2012-03-07T20:26:01Z</dcterms:modified>
  <cp:revision>12</cp:revision>
  <dc:subject/>
  <dc:title>Opener:</dc:title>
</cp:coreProperties>
</file>